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92E4-8038-4077-8560-E7975DCBC3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1FCA-D5C4-494B-9BCC-F8E2AE61B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source only uses single index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7361-85D9-487D-A18D-278448FE8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9517-C264-4873-86D4-1E6DC4FF9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5C18-AB0C-4AB5-B8BC-DB04D47A1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17ED-4014-4F20-9B4E-FE74E6FEE7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olour symbolizes a process holding some part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nt on boundary ex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4619-1CF9-47AD-B835-560277286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1266-883E-4F7A-878B-30871BB3F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BDA1-29FF-4FFF-B7F3-B9533EE1A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ifiers are defined using Index-lis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hould be described in a compac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D508-74FB-4C25-AD84-4057908C2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3BC7-8CF5-4E19-8CBF-519EFEEA8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fixed offsets occur with dynamic ar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B4BE-4471-4B03-A1DC-A0D4EC2F5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D36C6-D53B-4D99-9ABE-42F49C0DE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0396-740E-4141-A07F-2C3854146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6EC0-7369-44E8-8BB8-59C5A8DDB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stalled on blizz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D850-4C84-4A76-B9C1-DB85C8130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53F25-D1BF-4151-BA4F-96B9977F8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628B-53C6-420B-B8BE-8E9EB8FD4F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FC39-E1F3-4AC3-9443-7C55177EF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9A40-95A4-4A51-A91B-564021CABD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FE1B-1E56-4FCD-A100-4BCA16A44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44D4-E801-4286-AF38-78B793C90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47C0-AA79-43F1-AFE9-E1F89A0B3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y-Layout can be faked, we really only need properly aligned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imple example on white-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D327-972F-4D21-932E-EDCD362E7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D7AD-6C3B-499E-AF82-B863320A5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BC3A-5397-4F50-AF63-74945A425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7119-7C2D-4A44-9E7D-8BF785E34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8345-2354-4A93-BB2C-F0121E944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868F-3A4E-43E7-B2B3-63A56ADB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94582-6A2E-4D2C-9673-8729432B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A0CB5-DBCB-4E6F-BB21-FCCC6183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C2C9-8578-47B5-B5A4-0E5B94E0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70FB7-8452-4BE1-9640-B33C72E1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D1B39-E853-4AB9-A0A6-D0BC2B02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6F235-1E41-432F-98C7-5C9C5BF5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0A540-9B28-44F8-9E47-E96E2C3F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934EA-BA5D-4994-B11D-CC506101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6468B-FF7B-451F-A82C-756C186A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111D0-0CE3-41B7-99F8-AB0784CA6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ED0F9-C052-4354-A78E-0ADB0F527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42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5084640" y="785880"/>
            <a:ext cx="327348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88920" y="6075360"/>
            <a:ext cx="1482840" cy="525600"/>
          </a:xfrm>
          <a:prstGeom prst="rect">
            <a:avLst/>
          </a:prstGeom>
          <a:ln w="0">
            <a:noFill/>
          </a:ln>
        </p:spPr>
      </p:pic>
      <p:sp>
        <p:nvSpPr>
          <p:cNvPr id="84" name="Rechteck 6"/>
          <p:cNvSpPr/>
          <p:nvPr/>
        </p:nvSpPr>
        <p:spPr>
          <a:xfrm>
            <a:off x="1726920" y="6121440"/>
            <a:ext cx="72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© DKRZ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erade Verbindung 7"/>
          <p:cNvSpPr/>
          <p:nvPr/>
        </p:nvSpPr>
        <p:spPr>
          <a:xfrm>
            <a:off x="3211560" y="6119640"/>
            <a:ext cx="1440" cy="484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liennummernplatzhalter 5"/>
          <p:cNvSpPr/>
          <p:nvPr/>
        </p:nvSpPr>
        <p:spPr>
          <a:xfrm>
            <a:off x="8767800" y="6572160"/>
            <a:ext cx="420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9"/>
          <p:cNvSpPr/>
          <p:nvPr/>
        </p:nvSpPr>
        <p:spPr>
          <a:xfrm>
            <a:off x="8750160" y="6573960"/>
            <a:ext cx="39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/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813096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F249-C781-4D08-9148-2B1F361DA69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2"/>
          </p:nvPr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5624-B462-4477-837F-EBCE7F9CD19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3244680" y="6117840"/>
            <a:ext cx="2143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smr.ca.sandia.gov/~apinar/papers/siampp00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redmine.dkrz.de/doc/yaxt/html/index.html" TargetMode="External"/><Relationship Id="rId2" Type="http://schemas.openxmlformats.org/officeDocument/2006/relationships/hyperlink" Target="https://www.dkrz.de/redmine/projects/yaxt" TargetMode="External"/><Relationship Id="rId3" Type="http://schemas.openxmlformats.org/officeDocument/2006/relationships/hyperlink" Target="https://www.dkrz.de/redmine/projects/yaxt/wiki/Download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8640" y="3785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Tahoma"/>
                <a:ea typeface="Tahoma"/>
              </a:rPr>
              <a:t>(Yet Another eXchange Tool, DKRZ 2012-20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28640" y="257184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040"/>
                </a:solidFill>
                <a:latin typeface="Tahoma"/>
                <a:ea typeface="Tahoma"/>
              </a:rPr>
              <a:t>Introduction to YA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nt src_index = rank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src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(&amp;src_index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f (rank == 0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struct Xt_stripe tgt_stripe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{.start = 0, .nstrides = 4, .stride = 1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stripes_new(&amp;tgt_stripe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}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xt_idxempty_new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A6C9-0B15-41C6-8333-CABEEE2E55B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750D4-5B88-43A3-A3C3-DE5199A9042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xmap xmap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, tgt_idxli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DA98-A8BD-44E5-A391-AD80222A446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BB88A-EC6A-4BE1-8277-0E052C9BFA1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 redist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new(xmap, MPI_I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C854-23BE-47CA-8AA7-66FF10FBFB6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1F6C-7F25-48A4-B5A1-9BC5772FAEF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src_data[1] = {…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tgt_data[4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redist, src_data, tgt_dat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delete(red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delete(xmap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tgt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src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161C-251F-4F40-AD08-12CE1FF7DF9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175E-2425-4438-BCF7-E636791C7FB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285920"/>
            <a:ext cx="822960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Transpose from row-wise to column-wis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B320-6656-46B2-9D73-0D8811C2F36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5BB5F-519D-4652-AE11-1134D9CDA5B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nhaltsplatzhalter 1"/>
          <p:cNvSpPr/>
          <p:nvPr/>
        </p:nvSpPr>
        <p:spPr>
          <a:xfrm>
            <a:off x="468360" y="515772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xample program: </a:t>
            </a:r>
            <a:r>
              <a:rPr b="0" lang="en-US" sz="2400" spc="-1" strike="noStrike">
                <a:solidFill>
                  <a:srgbClr val="262626"/>
                </a:solidFill>
                <a:latin typeface="Courier New"/>
                <a:ea typeface="Tahoma"/>
              </a:rPr>
              <a:t>examples/row2col_f.f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afik 8" descr="row2col.png"/>
          <p:cNvPicPr/>
          <p:nvPr/>
        </p:nvPicPr>
        <p:blipFill>
          <a:blip r:embed="rId1"/>
          <a:stretch/>
        </p:blipFill>
        <p:spPr>
          <a:xfrm>
            <a:off x="446040" y="2349360"/>
            <a:ext cx="8251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INT(global_range(:, 2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row_part_range(2, :) –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row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3FFC-880F-4B86-B3FB-F19FC724D0C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BE63F-E66C-4168-84B3-213F16F4596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INT(global_range(:,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–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col_part_range(2, :)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- col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column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113F-BC99-4383-ABA0-071B7CA3DFA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5B06-677A-422F-86D0-D2DF57B43EA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global_range(1:2, 1:2) = RESHAPE((/ 1, 10, 1, 5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/ 2, 2 /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(/ 1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(/ 4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(/ 1, 10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(/ 10, 2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for 10x5 global shape and 2</a:t>
            </a:r>
            <a:r>
              <a:rPr b="0" lang="en-US" sz="3200" spc="-1" strike="noStrike" baseline="30000">
                <a:solidFill>
                  <a:srgbClr val="404040"/>
                </a:solidFill>
                <a:latin typeface="Tahoma"/>
                <a:ea typeface="Tahoma"/>
              </a:rPr>
              <a:t>nd</a:t>
            </a: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 (= MPI rank 1) of 3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56E99-6A4C-4D05-AFEB-0CDDF8DBF28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FDC2-9279-445E-AA4E-A1ABB55D693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tgt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decomposition descri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143E-2572-4048-BB23-981D48ABA8A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0A36-6285-4183-B107-2C3721F2AE8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exchange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xmap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xmap_all2all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, tgt_idxlist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redistribution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ed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p2p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xmap, mpi_double_preci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mapping and re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EBC8-6DCB-4825-AF2D-DADBDDAC0E5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97E9-54AA-4D25-A3D1-B9EB1990DE9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285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f data between two sets of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What it 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48720" cy="4122720"/>
          </a:xfrm>
          <a:prstGeom prst="rect">
            <a:avLst/>
          </a:prstGeom>
          <a:ln w="0">
            <a:noFill/>
          </a:ln>
        </p:spPr>
      </p:pic>
      <p:sp>
        <p:nvSpPr>
          <p:cNvPr id="141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976F6-E313-41FA-B690-708951CF5CF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379F-6B3E-4CFF-A422-D29D4E85A10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prepare arr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ALLOCATE(src_array(row_part_range(1, 1):row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row_part_range(1, 2):row_part_range(2, 2)),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tgt_array(col_part_range(1, 1):col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col_part_range(1, 2):col_part_range(2, 2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j = row_part_range(1, 2), row_part_range(2, 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i = row_part_range(1, 1), row_part_range(2, 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src_array(i, j) = DBLE(i * j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do the excha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s_exchange1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(redist, C_LOC(src_array), C_LOC(tgt_array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ll source array and redistrib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87C8-D145-4C65-AECC-B974216B800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6DCF-A66F-4BBB-AC1E-F0BD2C8DAA0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clean u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DEALLOCATE(tgt_array, src_arra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red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xmap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xma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tgt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finali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finaliz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mpi_finalize(ie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IF (ierror /= mpi_success) STOP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nish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E3A5-DAB2-4871-ADC3-0DF0FAEC427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FA1C-86A0-49DB-A1DA-D2BB2E5DA71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s (Xt_idxlist) describe subsets of indices within the global index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global index space can be any list of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re are multiple methods for constructing index l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785B1-7BED-4855-9397-54FF702A220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A86B-D7F4-43E3-BEE2-52D4A055888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rbitrary list of indic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26"/>
                </a:solidFill>
                <a:latin typeface="Tahoma"/>
                <a:ea typeface="Tahoma"/>
              </a:rPr>
              <a:t>[0,3,32,26,44,14,48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ist of stripes: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[start = 0, nstrides = 3, stride = 2], [start = 1, nstrides = 2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stride = 2]] == [0,2,4,1,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N-dimensional block of indices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start = 0, num_dimension = 2, global_size = [5,5]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ocal_size = [3,3], local_start = [1,1]] == [6,7,8,11,12,13,16,17,18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1766-3E63-40C1-8D9A-0334B8F0BB5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6B08-CB98-445E-B4A3-CDF8CA18BE1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Combination of a number of index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The modifier allows to define a mapping between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s create a new index list from an existing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: I =[0,1,2,3,4,5]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: </a:t>
            </a: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 = [0,2,4,6,8,10]-&gt;[10,8,6,4,2,0]</a:t>
            </a:r>
            <a:br>
              <a:rPr sz="2000"/>
            </a:b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(I)=[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10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1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8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3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6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5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2E00-862B-42CC-B33E-B77DE097A24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548CE-6711-48B9-93C4-4E8275DD462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285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Exchange maps (Xt_xmap) determine communication partners and what data needs to be exchanged, based on th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very process sends its src and tgt list to all othe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Rendezvous algorithm[1] based on a distributed directory of global indices is used to avoid all to all communication patt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8EE5-E841-4298-9F8A-5F1E1C4AE04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F7B8-B3D4-421E-8809-B1E1A938274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feld 6"/>
          <p:cNvSpPr/>
          <p:nvPr/>
        </p:nvSpPr>
        <p:spPr>
          <a:xfrm>
            <a:off x="468360" y="4653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. Pinar and B. Hendrickson,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ommunication Support for Adaptive Computation}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in Proc. SIAM Conf. on Parallel Processing for Scientific Computing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bjects (Xt_redist) can be built for every non-null MPI data type (basic types, structs, vector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ternally YAXT will build MPI data type for every required exchange </a:t>
            </a:r>
            <a:r>
              <a:rPr b="0" lang="en-GB" sz="24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 no buffers are required for the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or a combined redistribution object YAXT will also build MPI data types even if the associated input arrays have no fixed offset between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6D77-C455-4F39-8293-DA67C45B443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A7C9-EC80-4879-B033-9B6A67A54A8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YAXT currently supports blocking redistribution of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F4F9-5240-4027-8C55-4A8DAC7E756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D827-2B60-41D5-B2E9-B37E1EEE35F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gp_3d_idxvec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gp_3d_vol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ndex, 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ew_gp_3d_idxvec = </a:t>
            </a:r>
            <a:r>
              <a:rPr b="1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gp_3d_idxve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9F8B7-EA1F-400A-BB66-144B7BAC611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9147-9564-430C-B04C-9BF1BC98DB1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hteck 7"/>
          <p:cNvSpPr/>
          <p:nvPr/>
        </p:nvSpPr>
        <p:spPr>
          <a:xfrm>
            <a:off x="6004080" y="1474920"/>
            <a:ext cx="7189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hteck 9"/>
          <p:cNvSpPr/>
          <p:nvPr/>
        </p:nvSpPr>
        <p:spPr>
          <a:xfrm>
            <a:off x="6006960" y="18334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hteck 10"/>
          <p:cNvSpPr/>
          <p:nvPr/>
        </p:nvSpPr>
        <p:spPr>
          <a:xfrm>
            <a:off x="6723000" y="1474920"/>
            <a:ext cx="720720" cy="358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hteck 11"/>
          <p:cNvSpPr/>
          <p:nvPr/>
        </p:nvSpPr>
        <p:spPr>
          <a:xfrm>
            <a:off x="6726240" y="21985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hteck 12"/>
          <p:cNvSpPr/>
          <p:nvPr/>
        </p:nvSpPr>
        <p:spPr>
          <a:xfrm>
            <a:off x="6726240" y="18273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hteck 13"/>
          <p:cNvSpPr/>
          <p:nvPr/>
        </p:nvSpPr>
        <p:spPr>
          <a:xfrm>
            <a:off x="6004080" y="219852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ck 14"/>
          <p:cNvSpPr/>
          <p:nvPr/>
        </p:nvSpPr>
        <p:spPr>
          <a:xfrm>
            <a:off x="600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ck 15"/>
          <p:cNvSpPr/>
          <p:nvPr/>
        </p:nvSpPr>
        <p:spPr>
          <a:xfrm>
            <a:off x="6732720" y="2565360"/>
            <a:ext cx="718920" cy="35892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hteck 16"/>
          <p:cNvSpPr/>
          <p:nvPr/>
        </p:nvSpPr>
        <p:spPr>
          <a:xfrm>
            <a:off x="7443720" y="1474920"/>
            <a:ext cx="7207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hteck 17"/>
          <p:cNvSpPr/>
          <p:nvPr/>
        </p:nvSpPr>
        <p:spPr>
          <a:xfrm>
            <a:off x="8164440" y="1474920"/>
            <a:ext cx="71928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hteck 18"/>
          <p:cNvSpPr/>
          <p:nvPr/>
        </p:nvSpPr>
        <p:spPr>
          <a:xfrm>
            <a:off x="7443720" y="18241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hteck 19"/>
          <p:cNvSpPr/>
          <p:nvPr/>
        </p:nvSpPr>
        <p:spPr>
          <a:xfrm>
            <a:off x="8164440" y="181440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hteck 20"/>
          <p:cNvSpPr/>
          <p:nvPr/>
        </p:nvSpPr>
        <p:spPr>
          <a:xfrm>
            <a:off x="7451640" y="220500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ck 21"/>
          <p:cNvSpPr/>
          <p:nvPr/>
        </p:nvSpPr>
        <p:spPr>
          <a:xfrm>
            <a:off x="744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ck 22"/>
          <p:cNvSpPr/>
          <p:nvPr/>
        </p:nvSpPr>
        <p:spPr>
          <a:xfrm>
            <a:off x="8166240" y="22035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ck 23"/>
          <p:cNvSpPr/>
          <p:nvPr/>
        </p:nvSpPr>
        <p:spPr>
          <a:xfrm>
            <a:off x="8166240" y="256536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ffsl_3d_idxvec(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ffsl_3d_vo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p, index, 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k = ffsl_kstack(kk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ew_ffsl_3d_idxvec = </a:t>
            </a:r>
            <a:r>
              <a:rPr b="1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ffsl_3d_idxvec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67F6-5E1D-4C4C-A328-312D76F68FC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4D1E-DA90-4F02-A481-08F53D04058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hteck 24"/>
          <p:cNvSpPr/>
          <p:nvPr/>
        </p:nvSpPr>
        <p:spPr>
          <a:xfrm>
            <a:off x="5867280" y="196848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hteck 25"/>
          <p:cNvSpPr/>
          <p:nvPr/>
        </p:nvSpPr>
        <p:spPr>
          <a:xfrm>
            <a:off x="5865840" y="232884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hteck 26"/>
          <p:cNvSpPr/>
          <p:nvPr/>
        </p:nvSpPr>
        <p:spPr>
          <a:xfrm>
            <a:off x="586728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Library on top of M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nspired by Fortran Prototype </a:t>
            </a:r>
            <a:r>
              <a:rPr b="0" i="1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nitrans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by Mathias Pütz in ScalES-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mplemented in C </a:t>
            </a:r>
            <a:r>
              <a:rPr b="0" lang="de-DE" sz="2800" spc="-1" strike="noStrike">
                <a:solidFill>
                  <a:srgbClr val="262626"/>
                </a:solidFill>
                <a:latin typeface="Cambria Math"/>
                <a:ea typeface="Cambria Math"/>
              </a:rPr>
              <a:t>⇒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type invari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Fully-featured Fortran interface (requires C-inte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ed by DKR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BSD lic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Git and SVN-readonly mirror repositorie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ses pkg-config (</a:t>
            </a:r>
            <a:r>
              <a:rPr b="0" lang="de-DE" sz="2400" spc="-1" strike="noStrike">
                <a:solidFill>
                  <a:srgbClr val="262626"/>
                </a:solidFill>
                <a:latin typeface="Courier New"/>
                <a:ea typeface="Tahoma"/>
              </a:rPr>
              <a:t>pkg-config --cflags yaxt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040"/>
                </a:solidFill>
                <a:latin typeface="Tahoma"/>
                <a:ea typeface="Tahoma"/>
              </a:rPr>
              <a:t>Some re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545F-1F08-4A16-9411-971BB6B0716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31FC-6739-43E8-88A9-9129BA5A0AD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gp_3d_off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proma, nlev, ngpblk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b, ia, index, 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b = 1, ngpblk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a = 1, npro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a,k,ib) = 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ia +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F (ia &gt; nproma) THE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ib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I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a,k,ib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gp_3d_of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BEBC-8A35-4B15-AC11-8DB844BE270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586B-B498-4D92-A69E-8452D72F980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7"/>
          <p:cNvSpPr/>
          <p:nvPr/>
        </p:nvSpPr>
        <p:spPr>
          <a:xfrm>
            <a:off x="601200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9"/>
          <p:cNvSpPr/>
          <p:nvPr/>
        </p:nvSpPr>
        <p:spPr>
          <a:xfrm>
            <a:off x="601200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hteck 10"/>
          <p:cNvSpPr/>
          <p:nvPr/>
        </p:nvSpPr>
        <p:spPr>
          <a:xfrm>
            <a:off x="6732720" y="1268280"/>
            <a:ext cx="7189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hteck 11"/>
          <p:cNvSpPr/>
          <p:nvPr/>
        </p:nvSpPr>
        <p:spPr>
          <a:xfrm>
            <a:off x="6732720" y="198288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2"/>
          <p:cNvSpPr/>
          <p:nvPr/>
        </p:nvSpPr>
        <p:spPr>
          <a:xfrm>
            <a:off x="6732720" y="1619280"/>
            <a:ext cx="7189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3"/>
          <p:cNvSpPr/>
          <p:nvPr/>
        </p:nvSpPr>
        <p:spPr>
          <a:xfrm>
            <a:off x="6012000" y="19828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hteck 14"/>
          <p:cNvSpPr/>
          <p:nvPr/>
        </p:nvSpPr>
        <p:spPr>
          <a:xfrm>
            <a:off x="601200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hteck 15"/>
          <p:cNvSpPr/>
          <p:nvPr/>
        </p:nvSpPr>
        <p:spPr>
          <a:xfrm>
            <a:off x="6732720" y="2347920"/>
            <a:ext cx="7207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hteck 16"/>
          <p:cNvSpPr/>
          <p:nvPr/>
        </p:nvSpPr>
        <p:spPr>
          <a:xfrm>
            <a:off x="745164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17"/>
          <p:cNvSpPr/>
          <p:nvPr/>
        </p:nvSpPr>
        <p:spPr>
          <a:xfrm>
            <a:off x="817236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hteck 18"/>
          <p:cNvSpPr/>
          <p:nvPr/>
        </p:nvSpPr>
        <p:spPr>
          <a:xfrm>
            <a:off x="7451640" y="161928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hteck 19"/>
          <p:cNvSpPr/>
          <p:nvPr/>
        </p:nvSpPr>
        <p:spPr>
          <a:xfrm>
            <a:off x="817236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hteck 20"/>
          <p:cNvSpPr/>
          <p:nvPr/>
        </p:nvSpPr>
        <p:spPr>
          <a:xfrm>
            <a:off x="745164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hteck 21"/>
          <p:cNvSpPr/>
          <p:nvPr/>
        </p:nvSpPr>
        <p:spPr>
          <a:xfrm>
            <a:off x="745164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hteck 22"/>
          <p:cNvSpPr/>
          <p:nvPr/>
        </p:nvSpPr>
        <p:spPr>
          <a:xfrm>
            <a:off x="817236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hteck 23"/>
          <p:cNvSpPr/>
          <p:nvPr/>
        </p:nvSpPr>
        <p:spPr>
          <a:xfrm>
            <a:off x="8172360" y="234792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hteck 24"/>
          <p:cNvSpPr/>
          <p:nvPr/>
        </p:nvSpPr>
        <p:spPr>
          <a:xfrm>
            <a:off x="3552840" y="2311560"/>
            <a:ext cx="1944720" cy="18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hteck 26"/>
          <p:cNvSpPr/>
          <p:nvPr/>
        </p:nvSpPr>
        <p:spPr>
          <a:xfrm>
            <a:off x="3552840" y="2519280"/>
            <a:ext cx="1944720" cy="187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6"/>
          <p:cNvSpPr/>
          <p:nvPr/>
        </p:nvSpPr>
        <p:spPr>
          <a:xfrm>
            <a:off x="6536520" y="28558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index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27"/>
          <p:cNvSpPr/>
          <p:nvPr/>
        </p:nvSpPr>
        <p:spPr>
          <a:xfrm>
            <a:off x="3792960" y="286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Gerade Verbindung mit Pfeil 28"/>
          <p:cNvCxnSpPr/>
          <p:nvPr/>
        </p:nvCxnSpPr>
        <p:spPr>
          <a:xfrm flipH="1">
            <a:off x="3552120" y="1268280"/>
            <a:ext cx="3188520" cy="1043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2" name="Gerade Verbindung mit Pfeil 31"/>
          <p:cNvCxnSpPr/>
          <p:nvPr/>
        </p:nvCxnSpPr>
        <p:spPr>
          <a:xfrm flipH="1">
            <a:off x="4858920" y="2358720"/>
            <a:ext cx="1882080" cy="1306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33" name="Rechteck 38"/>
          <p:cNvSpPr/>
          <p:nvPr/>
        </p:nvSpPr>
        <p:spPr>
          <a:xfrm>
            <a:off x="5054760" y="2617920"/>
            <a:ext cx="433080" cy="8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feld 41"/>
          <p:cNvSpPr/>
          <p:nvPr/>
        </p:nvSpPr>
        <p:spPr>
          <a:xfrm>
            <a:off x="3492360" y="386064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o offset rel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h local index corresponds to p-th local off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,k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a,k,i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ffsl_3d_off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lon, ffsl_nlat, ffsl_nlev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ic, jc, kc, p, index, 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c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c = ffsl_nlat, 1, -1 ! change in j-ori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c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c, jc, kc) = 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kc = k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jc = j-ffsl_gp_lat1+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c =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c, jc, k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ffsl_3d_of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B357-2C5A-4D08-8954-BFCAB553E20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9561-0ACA-48D2-9CD2-1575A351691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hteck 24"/>
          <p:cNvSpPr/>
          <p:nvPr/>
        </p:nvSpPr>
        <p:spPr>
          <a:xfrm>
            <a:off x="5865840" y="197172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hteck 25"/>
          <p:cNvSpPr/>
          <p:nvPr/>
        </p:nvSpPr>
        <p:spPr>
          <a:xfrm>
            <a:off x="5865840" y="233352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hteck 26"/>
          <p:cNvSpPr/>
          <p:nvPr/>
        </p:nvSpPr>
        <p:spPr>
          <a:xfrm>
            <a:off x="586584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fin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USE ya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::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, ffsl_3d_idxl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xmap) :: 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ALLOCATABLE ::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(:), ffsl_3d_off(: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redist), SAVE :: 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compos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gp_3d_idxvec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ffsl_3d_idxstripes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Init xmap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 model_com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Offset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gp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ffsl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Red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off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p_real_d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Usage in the model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gp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ffsl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u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DD9B-8361-4FBA-83C1-1F7F503B3E71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12FC-46CA-4B31-98B5-29F0C13D9B7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ifferent exchange kinds, each of th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behaves differently at global domain bounda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p_exch_kind      =  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plus_exch_kind  =  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_exch_kind      =  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u_exch_kind     =  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plus_exch_kind  =  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_exch_kind      =  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v_exch_kind     =  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f_exch_kind     =  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_exch_kind      =  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minus_exch_kind = 1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Usage of yaxt-modifiers to simplify definitions o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ecomposi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MPIOM bounds-exchange with mod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666D-5560-4B25-BD5C-1AA0B57D6A8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9B85-58B9-4DE6-9E55-E8208CFDA03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547640" y="1557360"/>
          <a:ext cx="260208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440"/>
                <a:gridCol w="434880"/>
                <a:gridCol w="433440"/>
                <a:gridCol w="43344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Simplified incomplete bounds-exchange exam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1F3F-CD09-465D-8244-86087D9B79F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AD53-0279-46B4-9324-C7B37AD9CE9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148360" y="1557360"/>
          <a:ext cx="260172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080"/>
                <a:gridCol w="435240"/>
                <a:gridCol w="433440"/>
                <a:gridCol w="43308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63" name="Textfeld 8"/>
          <p:cNvSpPr/>
          <p:nvPr/>
        </p:nvSpPr>
        <p:spPr>
          <a:xfrm>
            <a:off x="1279080" y="11970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source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feld 9"/>
          <p:cNvSpPr/>
          <p:nvPr/>
        </p:nvSpPr>
        <p:spPr>
          <a:xfrm>
            <a:off x="4951080" y="1197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target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feld 10"/>
          <p:cNvSpPr/>
          <p:nvPr/>
        </p:nvSpPr>
        <p:spPr>
          <a:xfrm>
            <a:off x="868320" y="3500280"/>
            <a:ext cx="6849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r 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1,7,13,19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,11,17,23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6,12,18,24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,8,14,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I)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feld 11"/>
          <p:cNvSpPr/>
          <p:nvPr/>
        </p:nvSpPr>
        <p:spPr>
          <a:xfrm>
            <a:off x="852480" y="4581360"/>
            <a:ext cx="4032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ource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[15,16,17,18,21,22,23,2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arget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(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[15,16,17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1,22,23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feld 12"/>
          <p:cNvSpPr/>
          <p:nvPr/>
        </p:nvSpPr>
        <p:spPr>
          <a:xfrm>
            <a:off x="5219640" y="4508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r can be applied to any index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cluded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hange of inner h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BC3BA-0D05-48BD-A271-F4890ED71B9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A0D6-D92E-4646-92E5-6DD53A00277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ompleting the bounds-exchang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ihandform 9"/>
          <p:cNvSpPr/>
          <p:nvPr/>
        </p:nvSpPr>
        <p:spPr>
          <a:xfrm>
            <a:off x="198360" y="1554120"/>
            <a:ext cx="4722840" cy="1463760"/>
          </a:xfrm>
          <a:custGeom>
            <a:avLst/>
            <a:gdLst>
              <a:gd name="textAreaLeft" fmla="*/ 0 w 4722840"/>
              <a:gd name="textAreaRight" fmla="*/ 4723200 w 472284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ihandform 10"/>
          <p:cNvSpPr/>
          <p:nvPr/>
        </p:nvSpPr>
        <p:spPr>
          <a:xfrm>
            <a:off x="393840" y="1800360"/>
            <a:ext cx="4297320" cy="127944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ihandform 11"/>
          <p:cNvSpPr/>
          <p:nvPr/>
        </p:nvSpPr>
        <p:spPr>
          <a:xfrm>
            <a:off x="19836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ihandform 12"/>
          <p:cNvSpPr/>
          <p:nvPr/>
        </p:nvSpPr>
        <p:spPr>
          <a:xfrm>
            <a:off x="470844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ihandform 13"/>
          <p:cNvSpPr/>
          <p:nvPr/>
        </p:nvSpPr>
        <p:spPr>
          <a:xfrm>
            <a:off x="411120" y="1736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ihandform 14"/>
          <p:cNvSpPr/>
          <p:nvPr/>
        </p:nvSpPr>
        <p:spPr>
          <a:xfrm>
            <a:off x="4464000" y="1736640"/>
            <a:ext cx="24444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ihandform 15"/>
          <p:cNvSpPr/>
          <p:nvPr/>
        </p:nvSpPr>
        <p:spPr>
          <a:xfrm>
            <a:off x="41112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ihandform 16"/>
          <p:cNvSpPr/>
          <p:nvPr/>
        </p:nvSpPr>
        <p:spPr>
          <a:xfrm>
            <a:off x="1874880" y="1736640"/>
            <a:ext cx="2833560" cy="457200"/>
          </a:xfrm>
          <a:custGeom>
            <a:avLst/>
            <a:gdLst>
              <a:gd name="textAreaLeft" fmla="*/ 0 w 2833560"/>
              <a:gd name="textAreaRight" fmla="*/ 2833920 w 28335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ihandform 17"/>
          <p:cNvSpPr/>
          <p:nvPr/>
        </p:nvSpPr>
        <p:spPr>
          <a:xfrm>
            <a:off x="411120" y="21938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ihandform 18"/>
          <p:cNvSpPr/>
          <p:nvPr/>
        </p:nvSpPr>
        <p:spPr>
          <a:xfrm>
            <a:off x="3246480" y="2193840"/>
            <a:ext cx="1461960" cy="824040"/>
          </a:xfrm>
          <a:custGeom>
            <a:avLst/>
            <a:gdLst>
              <a:gd name="textAreaLeft" fmla="*/ 0 w 1461960"/>
              <a:gd name="textAreaRight" fmla="*/ 1462320 w 14619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ihandform 19"/>
          <p:cNvSpPr/>
          <p:nvPr/>
        </p:nvSpPr>
        <p:spPr>
          <a:xfrm>
            <a:off x="166680" y="3840120"/>
            <a:ext cx="1828800" cy="824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ihandform 20"/>
          <p:cNvSpPr/>
          <p:nvPr/>
        </p:nvSpPr>
        <p:spPr>
          <a:xfrm>
            <a:off x="3459240" y="4754520"/>
            <a:ext cx="1828800" cy="1006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ihandform 21"/>
          <p:cNvSpPr/>
          <p:nvPr/>
        </p:nvSpPr>
        <p:spPr>
          <a:xfrm>
            <a:off x="166680" y="4754520"/>
            <a:ext cx="3200400" cy="10065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ihandform 22"/>
          <p:cNvSpPr/>
          <p:nvPr/>
        </p:nvSpPr>
        <p:spPr>
          <a:xfrm>
            <a:off x="2087640" y="3840120"/>
            <a:ext cx="3200400" cy="82404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ihandform 23"/>
          <p:cNvSpPr/>
          <p:nvPr/>
        </p:nvSpPr>
        <p:spPr>
          <a:xfrm>
            <a:off x="16668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ihandform 24"/>
          <p:cNvSpPr/>
          <p:nvPr/>
        </p:nvSpPr>
        <p:spPr>
          <a:xfrm>
            <a:off x="349200" y="4022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ihandform 25"/>
          <p:cNvSpPr/>
          <p:nvPr/>
        </p:nvSpPr>
        <p:spPr>
          <a:xfrm>
            <a:off x="349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ihandform 26"/>
          <p:cNvSpPr/>
          <p:nvPr/>
        </p:nvSpPr>
        <p:spPr>
          <a:xfrm>
            <a:off x="364176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ihandform 27"/>
          <p:cNvSpPr/>
          <p:nvPr/>
        </p:nvSpPr>
        <p:spPr>
          <a:xfrm>
            <a:off x="2270160" y="4022640"/>
            <a:ext cx="2835360" cy="45720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ihandform 28"/>
          <p:cNvSpPr/>
          <p:nvPr/>
        </p:nvSpPr>
        <p:spPr>
          <a:xfrm>
            <a:off x="16668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ihandform 29"/>
          <p:cNvSpPr/>
          <p:nvPr/>
        </p:nvSpPr>
        <p:spPr>
          <a:xfrm>
            <a:off x="349200" y="49370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ihandform 30"/>
          <p:cNvSpPr/>
          <p:nvPr/>
        </p:nvSpPr>
        <p:spPr>
          <a:xfrm>
            <a:off x="34592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ihandform 31"/>
          <p:cNvSpPr/>
          <p:nvPr/>
        </p:nvSpPr>
        <p:spPr>
          <a:xfrm>
            <a:off x="3641760" y="4937040"/>
            <a:ext cx="1463760" cy="8240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ihandform 32"/>
          <p:cNvSpPr/>
          <p:nvPr/>
        </p:nvSpPr>
        <p:spPr>
          <a:xfrm>
            <a:off x="16304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ihandform 33"/>
          <p:cNvSpPr/>
          <p:nvPr/>
        </p:nvSpPr>
        <p:spPr>
          <a:xfrm>
            <a:off x="3641760" y="4297320"/>
            <a:ext cx="1433520" cy="18252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ihandform 34"/>
          <p:cNvSpPr/>
          <p:nvPr/>
        </p:nvSpPr>
        <p:spPr>
          <a:xfrm>
            <a:off x="22701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ihandform 35"/>
          <p:cNvSpPr/>
          <p:nvPr/>
        </p:nvSpPr>
        <p:spPr>
          <a:xfrm>
            <a:off x="4921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ihandform 36"/>
          <p:cNvSpPr/>
          <p:nvPr/>
        </p:nvSpPr>
        <p:spPr>
          <a:xfrm>
            <a:off x="349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3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ihandform 37"/>
          <p:cNvSpPr/>
          <p:nvPr/>
        </p:nvSpPr>
        <p:spPr>
          <a:xfrm>
            <a:off x="30020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ihandform 38"/>
          <p:cNvSpPr/>
          <p:nvPr/>
        </p:nvSpPr>
        <p:spPr>
          <a:xfrm>
            <a:off x="349200" y="4937040"/>
            <a:ext cx="1494000" cy="1843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ihandform 39"/>
          <p:cNvSpPr/>
          <p:nvPr/>
        </p:nvSpPr>
        <p:spPr>
          <a:xfrm>
            <a:off x="349200" y="42973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ihandform 40"/>
          <p:cNvSpPr/>
          <p:nvPr/>
        </p:nvSpPr>
        <p:spPr>
          <a:xfrm>
            <a:off x="3641760" y="49370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ihandform 41"/>
          <p:cNvSpPr/>
          <p:nvPr/>
        </p:nvSpPr>
        <p:spPr>
          <a:xfrm>
            <a:off x="36417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ihandform 42"/>
          <p:cNvSpPr/>
          <p:nvPr/>
        </p:nvSpPr>
        <p:spPr>
          <a:xfrm>
            <a:off x="4921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ihandform 43"/>
          <p:cNvSpPr/>
          <p:nvPr/>
        </p:nvSpPr>
        <p:spPr>
          <a:xfrm>
            <a:off x="18129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ihandform 44"/>
          <p:cNvSpPr/>
          <p:nvPr/>
        </p:nvSpPr>
        <p:spPr>
          <a:xfrm>
            <a:off x="31845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ihandform 45"/>
          <p:cNvSpPr/>
          <p:nvPr/>
        </p:nvSpPr>
        <p:spPr>
          <a:xfrm>
            <a:off x="510552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ihandform 46"/>
          <p:cNvSpPr/>
          <p:nvPr/>
        </p:nvSpPr>
        <p:spPr>
          <a:xfrm>
            <a:off x="349200" y="4754520"/>
            <a:ext cx="1494000" cy="1825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ihandform 47"/>
          <p:cNvSpPr/>
          <p:nvPr/>
        </p:nvSpPr>
        <p:spPr>
          <a:xfrm>
            <a:off x="3641760" y="47545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ihandform 48"/>
          <p:cNvSpPr/>
          <p:nvPr/>
        </p:nvSpPr>
        <p:spPr>
          <a:xfrm>
            <a:off x="34920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ihandform 49"/>
          <p:cNvSpPr/>
          <p:nvPr/>
        </p:nvSpPr>
        <p:spPr>
          <a:xfrm>
            <a:off x="16668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ihandform 50"/>
          <p:cNvSpPr/>
          <p:nvPr/>
        </p:nvSpPr>
        <p:spPr>
          <a:xfrm>
            <a:off x="181296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ihandform 51"/>
          <p:cNvSpPr/>
          <p:nvPr/>
        </p:nvSpPr>
        <p:spPr>
          <a:xfrm>
            <a:off x="16668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ihandform 52"/>
          <p:cNvSpPr/>
          <p:nvPr/>
        </p:nvSpPr>
        <p:spPr>
          <a:xfrm>
            <a:off x="1843200" y="4754520"/>
            <a:ext cx="1341360" cy="1825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ihandform 53"/>
          <p:cNvSpPr/>
          <p:nvPr/>
        </p:nvSpPr>
        <p:spPr>
          <a:xfrm>
            <a:off x="318456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ihandform 54"/>
          <p:cNvSpPr/>
          <p:nvPr/>
        </p:nvSpPr>
        <p:spPr>
          <a:xfrm>
            <a:off x="345924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ihandform 55"/>
          <p:cNvSpPr/>
          <p:nvPr/>
        </p:nvSpPr>
        <p:spPr>
          <a:xfrm>
            <a:off x="510552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ihandform 56"/>
          <p:cNvSpPr/>
          <p:nvPr/>
        </p:nvSpPr>
        <p:spPr>
          <a:xfrm>
            <a:off x="2270160" y="4479840"/>
            <a:ext cx="1371600" cy="1843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ihandform 57"/>
          <p:cNvSpPr/>
          <p:nvPr/>
        </p:nvSpPr>
        <p:spPr>
          <a:xfrm>
            <a:off x="208764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ihandform 58"/>
          <p:cNvSpPr/>
          <p:nvPr/>
        </p:nvSpPr>
        <p:spPr>
          <a:xfrm>
            <a:off x="20876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ihandform 59"/>
          <p:cNvSpPr/>
          <p:nvPr/>
        </p:nvSpPr>
        <p:spPr>
          <a:xfrm>
            <a:off x="510552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ihandform 60"/>
          <p:cNvSpPr/>
          <p:nvPr/>
        </p:nvSpPr>
        <p:spPr>
          <a:xfrm>
            <a:off x="510552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ihandform 61"/>
          <p:cNvSpPr/>
          <p:nvPr/>
        </p:nvSpPr>
        <p:spPr>
          <a:xfrm>
            <a:off x="1843200" y="4937040"/>
            <a:ext cx="1341360" cy="1843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ihandform 62"/>
          <p:cNvSpPr/>
          <p:nvPr/>
        </p:nvSpPr>
        <p:spPr>
          <a:xfrm>
            <a:off x="2270160" y="4297320"/>
            <a:ext cx="1371600" cy="182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feld 63"/>
          <p:cNvSpPr/>
          <p:nvPr/>
        </p:nvSpPr>
        <p:spPr>
          <a:xfrm>
            <a:off x="5472000" y="12733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lobal 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 described by mod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feld 64"/>
          <p:cNvSpPr/>
          <p:nvPr/>
        </p:nvSpPr>
        <p:spPr>
          <a:xfrm>
            <a:off x="5472000" y="367020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sub-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epend on stencil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border definition done by user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65"/>
          <p:cNvSpPr/>
          <p:nvPr/>
        </p:nvSpPr>
        <p:spPr>
          <a:xfrm>
            <a:off x="214200" y="2995560"/>
            <a:ext cx="43722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  <a:ea typeface="Tahoma"/>
              </a:rPr>
              <a:t>Source</a:t>
            </a:r>
            <a:r>
              <a:rPr b="0" lang="de-DE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i       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   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         Target</a:t>
            </a:r>
            <a:r>
              <a:rPr b="0" lang="de-DE" sz="1800" spc="-1" strike="noStrike" baseline="-25000">
                <a:solidFill>
                  <a:srgbClr val="c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Nach unten gekrümmter Pfeil 66"/>
          <p:cNvSpPr/>
          <p:nvPr/>
        </p:nvSpPr>
        <p:spPr>
          <a:xfrm>
            <a:off x="441360" y="1449360"/>
            <a:ext cx="4572000" cy="63828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320 h 638280"/>
              <a:gd name="textAreaBottom" fmla="*/ 552960 h 638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5" hR="21600" stAng="10800000" swAng="5400000"/>
                <a:lnTo>
                  <a:pt x="10989" y="0"/>
                </a:lnTo>
                <a:arcTo wR="10235" hR="21600" stAng="-5400000" swAng="3684760"/>
                <a:lnTo>
                  <a:pt x="21275" y="16200"/>
                </a:lnTo>
                <a:lnTo>
                  <a:pt x="20846" y="21600"/>
                </a:lnTo>
                <a:lnTo>
                  <a:pt x="19767" y="16200"/>
                </a:lnTo>
                <a:lnTo>
                  <a:pt x="20144" y="16200"/>
                </a:lnTo>
                <a:arcTo wR="10235" hR="21600" stAng="-1715240" swAng="-3624724"/>
                <a:lnTo>
                  <a:pt x="10612" y="15"/>
                </a:lnTo>
                <a:arcTo wR="10235" hR="21600" stAng="-5460036" swAng="-5339964"/>
                <a:close/>
              </a:path>
              <a:path fill="darkenLess" w="21600" h="21600">
                <a:moveTo>
                  <a:pt x="0" y="21600"/>
                </a:moveTo>
                <a:arcTo wR="10235" hR="21600" stAng="10800000" swAng="5400000"/>
                <a:lnTo>
                  <a:pt x="10235" y="0"/>
                </a:lnTo>
                <a:arcTo wR="10235" hR="21600" stAng="-5400000" swAng="60036"/>
                <a:lnTo>
                  <a:pt x="10612" y="15"/>
                </a:lnTo>
                <a:arcTo wR="10235" hR="21600" stAng="-5460036" swAng="-533996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Nach unten gekrümmter Pfeil 67"/>
          <p:cNvSpPr/>
          <p:nvPr/>
        </p:nvSpPr>
        <p:spPr>
          <a:xfrm rot="10800000">
            <a:off x="136440" y="2374200"/>
            <a:ext cx="4572000" cy="63972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4" hR="21600" stAng="10800000" swAng="5400000"/>
                <a:lnTo>
                  <a:pt x="10989" y="0"/>
                </a:lnTo>
                <a:arcTo wR="10234" hR="21600" stAng="-5400000" swAng="3684619"/>
                <a:lnTo>
                  <a:pt x="21275" y="16200"/>
                </a:lnTo>
                <a:lnTo>
                  <a:pt x="20845" y="21600"/>
                </a:lnTo>
                <a:lnTo>
                  <a:pt x="19764" y="16200"/>
                </a:lnTo>
                <a:lnTo>
                  <a:pt x="20142" y="16200"/>
                </a:lnTo>
                <a:arcTo wR="10234" hR="21600" stAng="-1715381" swAng="-3624503"/>
                <a:lnTo>
                  <a:pt x="10611" y="15"/>
                </a:lnTo>
                <a:arcTo wR="10234" hR="21600" stAng="-5460116" swAng="-5339884"/>
                <a:close/>
              </a:path>
              <a:path fill="darkenLess" w="21600" h="21600">
                <a:moveTo>
                  <a:pt x="0" y="21600"/>
                </a:moveTo>
                <a:arcTo wR="10234" hR="21600" stAng="10800000" swAng="5400000"/>
                <a:lnTo>
                  <a:pt x="10234" y="0"/>
                </a:lnTo>
                <a:arcTo wR="10234" hR="21600" stAng="-5400000" swAng="60116"/>
                <a:lnTo>
                  <a:pt x="10611" y="15"/>
                </a:lnTo>
                <a:arcTo wR="10234" hR="21600" stAng="-5460116" swAng="-533988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feil nach rechts 68"/>
          <p:cNvSpPr/>
          <p:nvPr/>
        </p:nvSpPr>
        <p:spPr>
          <a:xfrm>
            <a:off x="1874880" y="3166920"/>
            <a:ext cx="547560" cy="179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Inhaltsplatzhalter 6" descr=""/>
          <p:cNvPicPr/>
          <p:nvPr/>
        </p:nvPicPr>
        <p:blipFill>
          <a:blip r:embed="rId1"/>
          <a:srcRect l="0" t="0" r="0" b="27138"/>
          <a:stretch/>
        </p:blipFill>
        <p:spPr>
          <a:xfrm>
            <a:off x="654120" y="2009880"/>
            <a:ext cx="7835760" cy="34351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3d-bounds-exchange measu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A9D70-521C-44B4-89CF-54887AD48B0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C1C6-E18A-405F-95B1-BF20CB90EF9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feld 8"/>
          <p:cNvSpPr/>
          <p:nvPr/>
        </p:nvSpPr>
        <p:spPr>
          <a:xfrm>
            <a:off x="1403280" y="14144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written – requires symmetric regular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feld 9"/>
          <p:cNvSpPr/>
          <p:nvPr/>
        </p:nvSpPr>
        <p:spPr>
          <a:xfrm>
            <a:off x="5508720" y="14144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rans/YAXT gener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9528E-B97F-4DBA-ABA8-958F7AF382C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0FD4-9644-401B-863C-54C95789511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2040" y="34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[TP04L40: 8x4] Load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afik 17" descr=""/>
          <p:cNvPicPr/>
          <p:nvPr/>
        </p:nvPicPr>
        <p:blipFill>
          <a:blip r:embed="rId1"/>
          <a:stretch/>
        </p:blipFill>
        <p:spPr>
          <a:xfrm>
            <a:off x="63360" y="1089000"/>
            <a:ext cx="5029200" cy="2532240"/>
          </a:xfrm>
          <a:prstGeom prst="rect">
            <a:avLst/>
          </a:prstGeom>
          <a:ln w="0">
            <a:noFill/>
          </a:ln>
        </p:spPr>
      </p:pic>
      <p:pic>
        <p:nvPicPr>
          <p:cNvPr id="444" name="Grafik 18" descr=""/>
          <p:cNvPicPr/>
          <p:nvPr/>
        </p:nvPicPr>
        <p:blipFill>
          <a:blip r:embed="rId2"/>
          <a:stretch/>
        </p:blipFill>
        <p:spPr>
          <a:xfrm>
            <a:off x="55440" y="3875040"/>
            <a:ext cx="5029200" cy="2532240"/>
          </a:xfrm>
          <a:prstGeom prst="rect">
            <a:avLst/>
          </a:prstGeom>
          <a:ln w="0">
            <a:noFill/>
          </a:ln>
        </p:spPr>
      </p:pic>
      <p:sp>
        <p:nvSpPr>
          <p:cNvPr id="445" name="Textfeld 19"/>
          <p:cNvSpPr/>
          <p:nvPr/>
        </p:nvSpPr>
        <p:spPr>
          <a:xfrm>
            <a:off x="5472000" y="1268280"/>
            <a:ext cx="3421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et-point-only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load 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Unfit legacy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hing g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feld 20"/>
          <p:cNvSpPr/>
          <p:nvPr/>
        </p:nvSpPr>
        <p:spPr>
          <a:xfrm>
            <a:off x="5472000" y="3875040"/>
            <a:ext cx="360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dapted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ld boundary exchange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eprogramming ex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AXT-for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s for both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 asynchronous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-Place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Multi-Phase ex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Use YAXT in MPIOM, ECHAM, ICON and CDI-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B8FCE-2318-4EDC-91D7-91C653D3EF2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A35C-BF8D-4DC1-A4BF-C610693BACF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262626"/>
                </a:solidFill>
                <a:latin typeface="Tahoma"/>
                <a:ea typeface="Tahoma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cumentation: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1"/>
              </a:rPr>
              <a:t>https://redmine.dkrz.de/doc/yaxt/html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m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https://www.dkrz.de/redmine/projects/ya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https://www.dkrz.de/redmine/projects/yaxt/wiki/Down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928600" y="423360"/>
            <a:ext cx="542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040"/>
              </a:solidFill>
              <a:latin typeface="Tahoma"/>
              <a:ea typeface="Tahoma"/>
            </a:endParaRPr>
          </a:p>
        </p:txBody>
      </p:sp>
      <p:sp>
        <p:nvSpPr>
          <p:cNvPr id="4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1DBD2-6982-42BE-AC16-C69B48CB518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4BA1-A96E-4099-8089-88E71F228E2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iti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process defines what data it has and what it wants (source and target decomposi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a mapping between source and target decompos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data type specific redistribution object for a given mapp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ime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Do the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in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Clean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How it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56DC-8F99-4AC3-B222-9004209F9A3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7297-28A0-4A75-949C-9D09B8C3516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ll data elements have the same memory layout and are stored in an array (C makes no difference between 1D and nD-array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data object has a unique global id (integ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 decomposition is a list of global data element 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positions of the global ids within the set correspond to the positions of the respective data elements within the data array (if nothing else is sai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82EF-1687-4642-A9FF-4904F6C13C2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47AF3-603F-41AF-9407-4F3F7DE39B6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mapping you need to provide the two decompositions and a MPI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operation is collective for all processes within the given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84C3-BCA6-453D-ADCC-1E2B052381B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139D-3CE6-4AC0-BC44-0906365AF78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data specific redistribution object the user needs to provide a mapping object and the MPI data type for the data el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t is possible to combine multiple existing redistribution objects (useful for aggregation of data exchang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6B76-45E0-4D2F-8E62-2114495BCAB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82A9-098B-49AF-8B6A-05B4AB4D668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do the exchange the user needs to call the exchange routine and provide a redistribution object and the source and target array(s) (passed via C_LOC from Fortra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l objects generated by YAXT can be destroyed by calling the respective destru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C09A-525A-47B1-A532-C85F4B36E7B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5BE8C-1638-4881-9FCF-AABB7A0C0E6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26"/>
                </a:solidFill>
                <a:latin typeface="Tahoma"/>
                <a:ea typeface="Tahoma"/>
              </a:rPr>
              <a:t>Gather on rank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610240" cy="1457280"/>
          </a:xfrm>
          <a:prstGeom prst="rect">
            <a:avLst/>
          </a:prstGeom>
          <a:ln w="0">
            <a:noFill/>
          </a:ln>
        </p:spPr>
      </p:pic>
      <p:sp>
        <p:nvSpPr>
          <p:cNvPr id="17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830F-7AB7-4AEE-9257-08CE6C50031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F3EE-ABF0-462B-B86C-5D6E4979268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7:51:59Z</dcterms:created>
  <dc:creator/>
  <dc:description/>
  <dc:language>en-US</dc:language>
  <cp:lastModifiedBy/>
  <dcterms:modified xsi:type="dcterms:W3CDTF">2013-06-07T09:37:03Z</dcterms:modified>
  <cp:revision>50</cp:revision>
  <dc:subject/>
  <dc:title>Introduction to YAXT</dc:title>
</cp:coreProperties>
</file>