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5200" y="-36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36108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5200" y="936108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EDF0-C69D-4A86-9DFA-BA452D9E54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35BE-E0D9-4A6D-885C-DCEA8E11E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source only uses single index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C308-5EB2-4299-B168-542E09B91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54FB-1F13-4115-9D32-4BBE0340B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43CE-B247-4266-92AB-839EE58CB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ED6C-8A1B-4685-BF17-3C62DDB0B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olour symbolizes a process holding some part of the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ent on boundary exch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CEC8-E5C9-483C-BF36-5EB4B6EFE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7D2F-12A7-470C-A374-A8839E2CC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5BDB-CEB9-436D-A0FB-CDEB330D3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ifiers are defined using Index-lis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hould be described in a compact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2877-B65C-4995-9AD4-ACF7C3F80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734E-B652-423F-A0DC-0331F06AF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fixed offsets occur with dynamic ar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3343-61B2-4F5A-9E6D-EF5B852E6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F6D0-F047-49F9-A01C-89A110BD4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0940-D3A8-4441-A446-9674F3493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6A5B-D214-4EB9-8A6C-EEBEF5B9E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nstalled on blizz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95F4-8F20-4309-9AFF-450961931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0E6C-E8B0-415E-9F86-D3087A75B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FE32-6508-407A-8187-DE5D713FF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6549-FBC9-45B0-B80B-DD8EB4F28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26CB-EA91-40B4-A142-8663B6BBDA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B88E-37A3-4224-93EE-5182EF631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682E-214C-4970-B293-23B041B6E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8D48-10C6-45D2-AB73-93CA2BE08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ay-Layout can be faked, we really only need properly aligned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simple example on white-bo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C909-82D9-4664-BDB2-3815C5CA1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F4E6-399B-44D9-9CDB-8AE6C0728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A950-A3B7-4766-AADB-7FC43F0D8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FEDC-B6AD-400A-9A26-ACE0FA811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83A8-431F-4FD8-939E-414A2634B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632E3-1518-4285-BAB7-2DB7C392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74E6C-127F-4F8A-8703-28F4B248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F33AA-8ED5-43DE-83FD-1C86CFB4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25191-2AD2-4A79-83C8-8FB8EF63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934D9-5D69-4A6D-ACF0-946E979D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72DE7-455F-4F89-BA92-39AB40BF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97CF0-FBFD-46FB-B863-1984B4AC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C2091-B93A-417D-A183-05F728AA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42A5E-DDDD-4975-9426-8004F96C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7346A-C4A3-477D-A2E7-31679ED6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3B6CB-241D-4E7B-AF01-DB3047235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9557B-16DB-4AE6-8AB2-0FDB1B29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pic>
        <p:nvPicPr>
          <p:cNvPr id="42" name="Grafik 5" descr="dkrz_logo_mit_unterzeile_rz_ohne_serifen_cmyk.tif"/>
          <p:cNvPicPr/>
          <p:nvPr/>
        </p:nvPicPr>
        <p:blipFill>
          <a:blip r:embed="rId4"/>
          <a:stretch/>
        </p:blipFill>
        <p:spPr>
          <a:xfrm>
            <a:off x="5084640" y="785880"/>
            <a:ext cx="3273480" cy="1158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pic>
        <p:nvPicPr>
          <p:cNvPr id="83" name="Grafik 5" descr="dkrz_logo_mit_unterzeile_rz_ohne_serifen_cmyk.tif"/>
          <p:cNvPicPr/>
          <p:nvPr/>
        </p:nvPicPr>
        <p:blipFill>
          <a:blip r:embed="rId4"/>
          <a:stretch/>
        </p:blipFill>
        <p:spPr>
          <a:xfrm>
            <a:off x="88920" y="6075360"/>
            <a:ext cx="1482840" cy="525600"/>
          </a:xfrm>
          <a:prstGeom prst="rect">
            <a:avLst/>
          </a:prstGeom>
          <a:ln w="0">
            <a:noFill/>
          </a:ln>
        </p:spPr>
      </p:pic>
      <p:sp>
        <p:nvSpPr>
          <p:cNvPr id="84" name="Rechteck 6"/>
          <p:cNvSpPr/>
          <p:nvPr/>
        </p:nvSpPr>
        <p:spPr>
          <a:xfrm>
            <a:off x="1726920" y="6121440"/>
            <a:ext cx="72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© DKRZ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Gerade Verbindung 7"/>
          <p:cNvSpPr/>
          <p:nvPr/>
        </p:nvSpPr>
        <p:spPr>
          <a:xfrm>
            <a:off x="3211560" y="6119640"/>
            <a:ext cx="1440" cy="4842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liennummernplatzhalter 5"/>
          <p:cNvSpPr/>
          <p:nvPr/>
        </p:nvSpPr>
        <p:spPr>
          <a:xfrm>
            <a:off x="8767800" y="6572160"/>
            <a:ext cx="420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feld 9"/>
          <p:cNvSpPr/>
          <p:nvPr/>
        </p:nvSpPr>
        <p:spPr>
          <a:xfrm>
            <a:off x="8750160" y="6573960"/>
            <a:ext cx="393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/3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1"/>
          </p:nvPr>
        </p:nvSpPr>
        <p:spPr>
          <a:xfrm>
            <a:off x="813096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C009-AA0E-4983-99A2-FF46A4BD61A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2"/>
          </p:nvPr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F93F-CFF1-4F44-A506-F8D57AA6F05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3244680" y="6117840"/>
            <a:ext cx="21434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csmr.ca.sandia.gov/~apinar/papers/siampp00.pdf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redmine.dkrz.de/doc/yaxt/html/index.html" TargetMode="External"/><Relationship Id="rId2" Type="http://schemas.openxmlformats.org/officeDocument/2006/relationships/hyperlink" Target="https://www.dkrz.de/redmine/projects/yaxt" TargetMode="External"/><Relationship Id="rId3" Type="http://schemas.openxmlformats.org/officeDocument/2006/relationships/hyperlink" Target="https://www.dkrz.de/redmine/projects/yaxt/wiki/Downloads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28640" y="37857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Tahoma"/>
                <a:ea typeface="Tahoma"/>
              </a:rPr>
              <a:t>(Yet Another eXchange Tool, DKRZ 2012-201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728640" y="2571840"/>
            <a:ext cx="777240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040"/>
                </a:solidFill>
                <a:latin typeface="Tahoma"/>
                <a:ea typeface="Tahoma"/>
              </a:rPr>
              <a:t>Introduction to YA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int src_index = rank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 src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(&amp;src_index,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 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if (rank == 0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struct Xt_stripe tgt_stripe 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{.start = 0, .nstrides = 4, .stride = 1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xt_idxstripes_new(&amp;tgt_stripe,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} el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 xt_idxempty_new(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efining a decom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9828-6BDC-4EBC-ACD6-9EF796196F9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B9BD-584E-4628-A119-3E0B57F8CE6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ahoma"/>
              </a:rPr>
              <a:t>Xt_xmap xmap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xmap_all2all_new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src_idxlist, tgt_idxlis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MPI_COMM_WORLD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1288-4178-4EB2-89D3-23AD98B7F65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E417-8596-4BE5-AE2D-513D6A9974E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 redist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p2p_new(xmap, MPI_IN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38A2-7730-40AF-8D8E-E7181882372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4076-5FB3-4404-A76F-191C1CA69029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int src_data[1] = {…}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int tgt_data[4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s_exchange1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redist, src_data, tgt_data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delete(red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xmap_delete(xmap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idxlist_delete(tgt_idxl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idxlist_delete(src_idxl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 and clean 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E54D-9118-49C5-9423-9A84456B667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9D43-6A78-4234-AEEC-7373022E57B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285920"/>
            <a:ext cx="8229600" cy="37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Transpose from row-wise to column-wise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F271-E5B8-4753-8BAB-8CA6BAB3AE8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D012-4FA8-4802-BD99-376897F51D7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Inhaltsplatzhalter 1"/>
          <p:cNvSpPr/>
          <p:nvPr/>
        </p:nvSpPr>
        <p:spPr>
          <a:xfrm>
            <a:off x="468360" y="5157720"/>
            <a:ext cx="82296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Example program: </a:t>
            </a:r>
            <a:r>
              <a:rPr b="0" lang="en-US" sz="2400" spc="-1" strike="noStrike">
                <a:solidFill>
                  <a:srgbClr val="262626"/>
                </a:solidFill>
                <a:latin typeface="Courier New"/>
                <a:ea typeface="Tahoma"/>
              </a:rPr>
              <a:t>examples/row2col_f.f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Grafik 8" descr="row2col.png"/>
          <p:cNvPicPr/>
          <p:nvPr/>
        </p:nvPicPr>
        <p:blipFill>
          <a:blip r:embed="rId1"/>
          <a:stretch/>
        </p:blipFill>
        <p:spPr>
          <a:xfrm>
            <a:off x="446040" y="2349360"/>
            <a:ext cx="82519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1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1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2, 1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1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2)) 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:, 2) = INT(global_range(:, 2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shape(:) = row_part_range(2, :) –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:)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idxlist for row-wise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F9E1-2EDA-4BF4-B182-50E86E88155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3378-6CE2-42AC-8513-9B1144FEEE4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:, 1) = INT(global_range(:,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1, 2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2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2, 2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2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2)) –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shape(:) = col_part_range(2, :)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- col_part_range(1, :)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idxlist for column-wise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D0F9-10D4-4D46-BA19-7B20C4D2613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78CD-2D98-41DE-BAF8-8B7D8DD1D68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global_range(1:2, 1:2) = RESHAPE((/ 1, 10, 1, 5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/ 2, 2 /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1) =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2, 1) =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:, 2) = (/ 1, 5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shape(:) = (/ 4, 5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:, 1) = (/ 1, 10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1, 2) =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2, 2) =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shape(:) = (/ 10, 2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95280" y="404280"/>
            <a:ext cx="6738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for 10x5 global shape and 2</a:t>
            </a:r>
            <a:r>
              <a:rPr b="0" lang="en-US" sz="3200" spc="-1" strike="noStrike" baseline="30000">
                <a:solidFill>
                  <a:srgbClr val="404040"/>
                </a:solidFill>
                <a:latin typeface="Tahoma"/>
                <a:ea typeface="Tahoma"/>
              </a:rPr>
              <a:t>nd</a:t>
            </a: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 (= MPI rank 1) of 3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ADB6-4061-4377-AC37-9319A877601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9B36-44E4-4D35-A989-D1FB43E29C0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src_idxl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idxfsection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0_xt_int_kind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global_shape, xt_int_kind),  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row_part_shape, xt_int_kind),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row_part_range(1, :), xt_int_kind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tgt_idxl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idxfsection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0_xt_int_kind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global_shape, xt_int_kind),  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col_part_shape, xt_int_kind),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col_part_range(1, :), xt_int_kind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decomposition descrip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7E1A-9112-4BBC-ABE2-1710C56EF8F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4E8D-5DC1-456F-A7C9-EEDF9015FF0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! generate exchange 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xmap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xmap_all2all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src_idxlist, tgt_idxlist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mpi_comm_worl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! generate redistribution 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ed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p2p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xmap, mpi_double_precis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mapping and redistrib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4A3B-E00E-4A31-9B84-DB891024FED9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5937-6AF5-462A-9DFF-F1A841087AC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28556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istribution of data between two sets of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What it do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048720" cy="4122720"/>
          </a:xfrm>
          <a:prstGeom prst="rect">
            <a:avLst/>
          </a:prstGeom>
          <a:ln w="0">
            <a:noFill/>
          </a:ln>
        </p:spPr>
      </p:pic>
      <p:sp>
        <p:nvSpPr>
          <p:cNvPr id="141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7F92-94D3-4093-8787-AAC5C6984DB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liennummernplatzhalter 6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81C2-81F8-49C9-AFED-A33B7D1FF6A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! prepare array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ALLOCATE(src_array(row_part_range(1, 1):row_part_range(2, 1), 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          row_part_range(1, 2):row_part_range(2, 2)),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tgt_array(col_part_range(1, 1):col_part_range(2, 1), 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          col_part_range(1, 2):col_part_range(2, 2)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DO j = row_part_range(1, 2), row_part_range(2, 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DO i = row_part_range(1, 1), row_part_range(2, 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src_array(i, j) = DBLE(i * j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! do the exchan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4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s_exchange1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(redist, C_LOC(src_array), C_LOC(tgt_array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Fill source array and redistribu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AB04-92FB-4E31-BE08-A541199D882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A897-53E6-418B-A3B7-DEC2FAFB0EB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! clean up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DEALLOCATE(tgt_array, src_array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red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xmap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xmap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tgt_idxl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src_idxl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! finalis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finaliz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mpi_finalize(ierror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IF (ierror /= mpi_success) STOP 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Finish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F5CD-4F04-44FA-890D-7F04C3FC76E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8481-DF89-4E73-A46F-04930FBFFDD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lists (Xt_idxlist) describe subsets of indices within the global index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global index space can be any list of ind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re are multiple methods for constructing index lis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v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stri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s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list col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modif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mpty Index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B2B9-B01D-401A-8588-AD12BDCDB21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9E60-0BDE-4CD4-9042-AC360D5E847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v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Arbitrary list of indic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626"/>
                </a:solidFill>
                <a:latin typeface="Tahoma"/>
                <a:ea typeface="Tahoma"/>
              </a:rPr>
              <a:t>[0,3,32,26,44,14,48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stri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List of stripes: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[[start = 0, nstrides = 3, stride = 2], [start = 1, nstrides = 2,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stride = 2]] == [0,2,4,1,3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s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N-dimensional block of indices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[start = 0, num_dimension = 2, global_size = [5,5],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local_size = [3,3], local_start = [1,1]] == [6,7,8,11,12,13,16,17,18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24A3-E727-4385-AB82-FF28C5001E3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495B-9B07-447B-B4B0-FDA74B6B5CA7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list col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Combination of a number of index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modif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The modifier allows to define a mapping between ind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odifiers create a new index list from an existing index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list: I =[0,1,2,3,4,5]</a:t>
            </a:r>
            <a:br>
              <a:rPr sz="2000"/>
            </a:b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odifier: </a:t>
            </a:r>
            <a:r>
              <a:rPr b="0" i="1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 = [0,2,4,6,8,10]-&gt;[10,8,6,4,2,0]</a:t>
            </a:r>
            <a:br>
              <a:rPr sz="2000"/>
            </a:br>
            <a:r>
              <a:rPr b="0" i="1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(I)=[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10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1,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8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3,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6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5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Empty index 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18FF-F5AA-4DE2-A1FD-B03DED2960B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4341-5C73-4209-8815-2E97763C02D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285560"/>
            <a:ext cx="822960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Exchange maps (Xt_xmap) determine communication partners and what data needs to be exchanged, based on the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lgorith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very process sends its src and tgt list to all other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Rendezvous algorithm[1] based on a distributed directory of global indices is used to avoid all to all communication patte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B5D8-BCFB-417B-B6A7-E8733691357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E71F-EE5A-468D-8622-3B4D717A078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feld 6"/>
          <p:cNvSpPr/>
          <p:nvPr/>
        </p:nvSpPr>
        <p:spPr>
          <a:xfrm>
            <a:off x="468360" y="465300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. Pinar and B. Hendrickson, </a:t>
            </a:r>
            <a:r>
              <a:rPr b="0" lang="de-DE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Communication Support for Adaptive Computation}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in Proc. SIAM Conf. on Parallel Processing for Scientific Computing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istribution objects (Xt_redist) can be built for every non-null MPI data type (basic types, structs, vectors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ternally YAXT will build MPI data type for every required exchange </a:t>
            </a:r>
            <a:r>
              <a:rPr b="0" lang="en-GB" sz="2400" spc="-1" strike="noStrike">
                <a:solidFill>
                  <a:srgbClr val="262626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 no buffers are required for the ex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For a combined redistribution object YAXT will also build MPI data types even if the associated input arrays have no fixed offset between each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CDC7-FD8F-4270-AE10-5F8EE7F8065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DE7C-F914-43CE-A547-4F26C6D19A6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YAXT currently supports blocking redistribution of da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17A3-DF79-40A9-91C1-E69BAC8FB52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35A0-326C-4BC2-939B-3323400C10F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FUNCTION new_gp_3d_idxvec(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dx(gp_3d_vol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p, r, index, 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idx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r = 1, 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j = glats(r), glate(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i = glons(r), glone(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dex = i + nlon * ( (j-1) + nlat * (k-1) 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dx(p) = index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j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new_gp_3d_idxvec = </a:t>
            </a:r>
            <a:r>
              <a:rPr b="1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(idx, n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 FUNCTION new_gp_3d_idxvec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Real world example:</a:t>
            </a:r>
            <a:br>
              <a:rPr sz="2800"/>
            </a:b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gp-de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B759-1234-490C-9781-85B4FB9C2C4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E67E-8D0F-4575-8F07-77C6C49C5BB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hteck 7"/>
          <p:cNvSpPr/>
          <p:nvPr/>
        </p:nvSpPr>
        <p:spPr>
          <a:xfrm>
            <a:off x="6004080" y="1474920"/>
            <a:ext cx="71892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hteck 9"/>
          <p:cNvSpPr/>
          <p:nvPr/>
        </p:nvSpPr>
        <p:spPr>
          <a:xfrm>
            <a:off x="6006960" y="18334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hteck 10"/>
          <p:cNvSpPr/>
          <p:nvPr/>
        </p:nvSpPr>
        <p:spPr>
          <a:xfrm>
            <a:off x="6723000" y="1474920"/>
            <a:ext cx="720720" cy="358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hteck 11"/>
          <p:cNvSpPr/>
          <p:nvPr/>
        </p:nvSpPr>
        <p:spPr>
          <a:xfrm>
            <a:off x="6726240" y="21985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hteck 12"/>
          <p:cNvSpPr/>
          <p:nvPr/>
        </p:nvSpPr>
        <p:spPr>
          <a:xfrm>
            <a:off x="6726240" y="182736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hteck 13"/>
          <p:cNvSpPr/>
          <p:nvPr/>
        </p:nvSpPr>
        <p:spPr>
          <a:xfrm>
            <a:off x="6004080" y="2198520"/>
            <a:ext cx="7189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hteck 14"/>
          <p:cNvSpPr/>
          <p:nvPr/>
        </p:nvSpPr>
        <p:spPr>
          <a:xfrm>
            <a:off x="6006960" y="256536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hteck 15"/>
          <p:cNvSpPr/>
          <p:nvPr/>
        </p:nvSpPr>
        <p:spPr>
          <a:xfrm>
            <a:off x="6732720" y="2565360"/>
            <a:ext cx="718920" cy="35892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hteck 16"/>
          <p:cNvSpPr/>
          <p:nvPr/>
        </p:nvSpPr>
        <p:spPr>
          <a:xfrm>
            <a:off x="7443720" y="1474920"/>
            <a:ext cx="72072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hteck 17"/>
          <p:cNvSpPr/>
          <p:nvPr/>
        </p:nvSpPr>
        <p:spPr>
          <a:xfrm>
            <a:off x="8164440" y="1474920"/>
            <a:ext cx="71928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hteck 18"/>
          <p:cNvSpPr/>
          <p:nvPr/>
        </p:nvSpPr>
        <p:spPr>
          <a:xfrm>
            <a:off x="7443720" y="18241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hteck 19"/>
          <p:cNvSpPr/>
          <p:nvPr/>
        </p:nvSpPr>
        <p:spPr>
          <a:xfrm>
            <a:off x="8164440" y="181440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hteck 20"/>
          <p:cNvSpPr/>
          <p:nvPr/>
        </p:nvSpPr>
        <p:spPr>
          <a:xfrm>
            <a:off x="7451640" y="220500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hteck 21"/>
          <p:cNvSpPr/>
          <p:nvPr/>
        </p:nvSpPr>
        <p:spPr>
          <a:xfrm>
            <a:off x="7446960" y="256536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hteck 22"/>
          <p:cNvSpPr/>
          <p:nvPr/>
        </p:nvSpPr>
        <p:spPr>
          <a:xfrm>
            <a:off x="8166240" y="220356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hteck 23"/>
          <p:cNvSpPr/>
          <p:nvPr/>
        </p:nvSpPr>
        <p:spPr>
          <a:xfrm>
            <a:off x="8166240" y="2565360"/>
            <a:ext cx="7207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FUNCTION new_ffsl_3d_idxvec(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dx(ffsl_3d_vol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kk, p, index, 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idx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kk = 1, ffsl_nlev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k = ffsl_kstack(kk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j = ffsl_gp_lat1, ffsl_gp_lat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i = 1, nl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dex = i + nlon * ( (j-1) + nlat * (k-1) 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dx(p) = index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new_ffsl_3d_idxvec = </a:t>
            </a:r>
            <a:r>
              <a:rPr b="1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(idx, 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 FUNCTION new_ffsl_3d_idxvec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ffsl-de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76B6-13F2-4633-ADE0-85368090DD0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27E3-1D8C-4188-A718-C6F6256E029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hteck 7"/>
          <p:cNvSpPr/>
          <p:nvPr/>
        </p:nvSpPr>
        <p:spPr>
          <a:xfrm>
            <a:off x="5865840" y="1608120"/>
            <a:ext cx="28796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hteck 24"/>
          <p:cNvSpPr/>
          <p:nvPr/>
        </p:nvSpPr>
        <p:spPr>
          <a:xfrm>
            <a:off x="5867280" y="1968480"/>
            <a:ext cx="28814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hteck 25"/>
          <p:cNvSpPr/>
          <p:nvPr/>
        </p:nvSpPr>
        <p:spPr>
          <a:xfrm>
            <a:off x="5865840" y="2328840"/>
            <a:ext cx="287964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hteck 26"/>
          <p:cNvSpPr/>
          <p:nvPr/>
        </p:nvSpPr>
        <p:spPr>
          <a:xfrm>
            <a:off x="5867280" y="2695680"/>
            <a:ext cx="288144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Gerade Verbindung 8"/>
          <p:cNvSpPr/>
          <p:nvPr/>
        </p:nvSpPr>
        <p:spPr>
          <a:xfrm flipV="1">
            <a:off x="5877000" y="130500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Gerade Verbindung 28"/>
          <p:cNvSpPr/>
          <p:nvPr/>
        </p:nvSpPr>
        <p:spPr>
          <a:xfrm flipV="1">
            <a:off x="8739360" y="133992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Gerade Verbindung 29"/>
          <p:cNvSpPr/>
          <p:nvPr/>
        </p:nvSpPr>
        <p:spPr>
          <a:xfrm flipV="1">
            <a:off x="8748720" y="2754360"/>
            <a:ext cx="360360" cy="2872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Library on top of M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Inspired by Fortran Prototype </a:t>
            </a:r>
            <a:r>
              <a:rPr b="0" i="1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Unitrans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 by Mathias Pütz in ScalES-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Implemented in C </a:t>
            </a:r>
            <a:r>
              <a:rPr b="0" lang="de-DE" sz="2800" spc="-1" strike="noStrike">
                <a:solidFill>
                  <a:srgbClr val="262626"/>
                </a:solidFill>
                <a:latin typeface="Cambria Math"/>
                <a:ea typeface="Cambria Math"/>
              </a:rPr>
              <a:t>⇒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 type invari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Fully-featured Fortran interface (requires C-intero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Supported by DKR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BSD licen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Git and SVN-readonly mirror repositories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Uses pkg-config (</a:t>
            </a:r>
            <a:r>
              <a:rPr b="0" lang="de-DE" sz="2400" spc="-1" strike="noStrike">
                <a:solidFill>
                  <a:srgbClr val="262626"/>
                </a:solidFill>
                <a:latin typeface="Courier New"/>
                <a:ea typeface="Tahoma"/>
              </a:rPr>
              <a:t>pkg-config --cflags yaxt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040"/>
                </a:solidFill>
                <a:latin typeface="Tahoma"/>
                <a:ea typeface="Tahoma"/>
              </a:rPr>
              <a:t>Some rema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6CC2-B55A-40BD-9BCC-186399B5CB9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E0A3-3829-4892-A378-D397DF03EFE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SUBROUTINE set_gp_3d_off(off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INTENT(out) :: off(: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coords_off(nproma, nlev, ngpblk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p, r, ib, ia, index, 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off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b = 1, ngpblk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a = 1, nprom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coords_off(ia,k,ib) = 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b =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r = 1, 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j = glats(r), glate(r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 = glons(r), glone(r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ia +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F (ia &gt; nproma) THE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b = ib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I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off(p) = coords_off(ia,k,ib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j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 SUBROUTINE set_gp_3d_of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gp-off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65B6-391F-406F-B146-C1E895C137F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4A65-C84B-4BFE-9E3E-95D54188C13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ck 7"/>
          <p:cNvSpPr/>
          <p:nvPr/>
        </p:nvSpPr>
        <p:spPr>
          <a:xfrm>
            <a:off x="601200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hteck 9"/>
          <p:cNvSpPr/>
          <p:nvPr/>
        </p:nvSpPr>
        <p:spPr>
          <a:xfrm>
            <a:off x="6012000" y="1619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hteck 10"/>
          <p:cNvSpPr/>
          <p:nvPr/>
        </p:nvSpPr>
        <p:spPr>
          <a:xfrm>
            <a:off x="6732720" y="1268280"/>
            <a:ext cx="71892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hteck 11"/>
          <p:cNvSpPr/>
          <p:nvPr/>
        </p:nvSpPr>
        <p:spPr>
          <a:xfrm>
            <a:off x="6732720" y="1982880"/>
            <a:ext cx="7189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hteck 12"/>
          <p:cNvSpPr/>
          <p:nvPr/>
        </p:nvSpPr>
        <p:spPr>
          <a:xfrm>
            <a:off x="6732720" y="1619280"/>
            <a:ext cx="7189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hteck 13"/>
          <p:cNvSpPr/>
          <p:nvPr/>
        </p:nvSpPr>
        <p:spPr>
          <a:xfrm>
            <a:off x="6012000" y="19828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hteck 14"/>
          <p:cNvSpPr/>
          <p:nvPr/>
        </p:nvSpPr>
        <p:spPr>
          <a:xfrm>
            <a:off x="6012000" y="23479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hteck 15"/>
          <p:cNvSpPr/>
          <p:nvPr/>
        </p:nvSpPr>
        <p:spPr>
          <a:xfrm>
            <a:off x="6732720" y="2347920"/>
            <a:ext cx="72072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hteck 16"/>
          <p:cNvSpPr/>
          <p:nvPr/>
        </p:nvSpPr>
        <p:spPr>
          <a:xfrm>
            <a:off x="745164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hteck 17"/>
          <p:cNvSpPr/>
          <p:nvPr/>
        </p:nvSpPr>
        <p:spPr>
          <a:xfrm>
            <a:off x="817236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hteck 18"/>
          <p:cNvSpPr/>
          <p:nvPr/>
        </p:nvSpPr>
        <p:spPr>
          <a:xfrm>
            <a:off x="7451640" y="1619280"/>
            <a:ext cx="7207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hteck 19"/>
          <p:cNvSpPr/>
          <p:nvPr/>
        </p:nvSpPr>
        <p:spPr>
          <a:xfrm>
            <a:off x="8172360" y="1619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hteck 20"/>
          <p:cNvSpPr/>
          <p:nvPr/>
        </p:nvSpPr>
        <p:spPr>
          <a:xfrm>
            <a:off x="7451640" y="19828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hteck 21"/>
          <p:cNvSpPr/>
          <p:nvPr/>
        </p:nvSpPr>
        <p:spPr>
          <a:xfrm>
            <a:off x="7451640" y="23479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hteck 22"/>
          <p:cNvSpPr/>
          <p:nvPr/>
        </p:nvSpPr>
        <p:spPr>
          <a:xfrm>
            <a:off x="8172360" y="19828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hteck 23"/>
          <p:cNvSpPr/>
          <p:nvPr/>
        </p:nvSpPr>
        <p:spPr>
          <a:xfrm>
            <a:off x="8172360" y="234792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hteck 24"/>
          <p:cNvSpPr/>
          <p:nvPr/>
        </p:nvSpPr>
        <p:spPr>
          <a:xfrm>
            <a:off x="3552840" y="2311560"/>
            <a:ext cx="1944720" cy="18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hteck 26"/>
          <p:cNvSpPr/>
          <p:nvPr/>
        </p:nvSpPr>
        <p:spPr>
          <a:xfrm>
            <a:off x="3552840" y="2519280"/>
            <a:ext cx="1944720" cy="187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feld 6"/>
          <p:cNvSpPr/>
          <p:nvPr/>
        </p:nvSpPr>
        <p:spPr>
          <a:xfrm>
            <a:off x="6536520" y="285588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index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feld 27"/>
          <p:cNvSpPr/>
          <p:nvPr/>
        </p:nvSpPr>
        <p:spPr>
          <a:xfrm>
            <a:off x="3792960" y="28638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off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Gerade Verbindung mit Pfeil 28"/>
          <p:cNvCxnSpPr/>
          <p:nvPr/>
        </p:nvCxnSpPr>
        <p:spPr>
          <a:xfrm flipH="1">
            <a:off x="3552120" y="1268280"/>
            <a:ext cx="3188520" cy="10436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32" name="Gerade Verbindung mit Pfeil 31"/>
          <p:cNvCxnSpPr/>
          <p:nvPr/>
        </p:nvCxnSpPr>
        <p:spPr>
          <a:xfrm flipH="1">
            <a:off x="4858920" y="2358720"/>
            <a:ext cx="1882080" cy="1306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33" name="Rechteck 38"/>
          <p:cNvSpPr/>
          <p:nvPr/>
        </p:nvSpPr>
        <p:spPr>
          <a:xfrm>
            <a:off x="5054760" y="2617920"/>
            <a:ext cx="433080" cy="8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feld 41"/>
          <p:cNvSpPr/>
          <p:nvPr/>
        </p:nvSpPr>
        <p:spPr>
          <a:xfrm>
            <a:off x="3492360" y="386064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to offset rel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th local index corresponds to p-th local offse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j,k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a,k,i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SUBROUTINE set_ffsl_3d_off(off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INTENT(out) :: off(: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coords_off(nlon, ffsl_nlat, ffsl_nlev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kk, ic, jc, kc, p, index, 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off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kc = 1, ffsl_nle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jc = ffsl_nlat, 1, -1 ! change in j-ori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ic = 1, nl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coords_off(ic, jc, kc) = 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kk = 1, ffsl_nle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kc = k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j = ffsl_gp_lat1, ffsl_gp_lat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jc = j-ffsl_gp_lat1+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i = 1, nl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c =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off(p) = coords_off(ic, jc, kc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 SUBROUTINE set_ffsl_3d_off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ffsl-off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A5AF-90B0-406E-BB25-D88F3629D43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AA77-0F33-4CDC-8F3E-4E5FE7F1D98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hteck 7"/>
          <p:cNvSpPr/>
          <p:nvPr/>
        </p:nvSpPr>
        <p:spPr>
          <a:xfrm>
            <a:off x="5865840" y="1608120"/>
            <a:ext cx="28796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hteck 24"/>
          <p:cNvSpPr/>
          <p:nvPr/>
        </p:nvSpPr>
        <p:spPr>
          <a:xfrm>
            <a:off x="5865840" y="1971720"/>
            <a:ext cx="28814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hteck 25"/>
          <p:cNvSpPr/>
          <p:nvPr/>
        </p:nvSpPr>
        <p:spPr>
          <a:xfrm>
            <a:off x="5865840" y="2333520"/>
            <a:ext cx="287964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hteck 26"/>
          <p:cNvSpPr/>
          <p:nvPr/>
        </p:nvSpPr>
        <p:spPr>
          <a:xfrm>
            <a:off x="5865840" y="2695680"/>
            <a:ext cx="288144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Gerade Verbindung 8"/>
          <p:cNvSpPr/>
          <p:nvPr/>
        </p:nvSpPr>
        <p:spPr>
          <a:xfrm flipV="1">
            <a:off x="5877000" y="130500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Gerade Verbindung 28"/>
          <p:cNvSpPr/>
          <p:nvPr/>
        </p:nvSpPr>
        <p:spPr>
          <a:xfrm flipV="1">
            <a:off x="8739360" y="133992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Gerade Verbindung 29"/>
          <p:cNvSpPr/>
          <p:nvPr/>
        </p:nvSpPr>
        <p:spPr>
          <a:xfrm flipV="1">
            <a:off x="8748720" y="2754360"/>
            <a:ext cx="360360" cy="2872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Defin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USE ya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:: 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, ffsl_3d_idxlis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xmap) :: </a:t>
            </a: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ALLOCATABLE ::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(:), ffsl_3d_off(: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redist), SAVE :: </a:t>
            </a: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Decompos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new_gp_3d_idxvec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ffsl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new_ffsl_3d_idxstripes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Init xmap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xmap_all2all_new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ffsl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 model_com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Offset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set_gp_3d_off(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set_ffsl_3d_off(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ffsl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Red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p2p_off_new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ffsl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p_real_dp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Usage in the model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s_exchange1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C_LOC(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Tahoma"/>
              </a:rPr>
              <a:t>gp_data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, C_LOC(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Tahoma"/>
              </a:rPr>
              <a:t>ffsl_data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u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9F3A-82BD-4067-95F7-A06C8B77BB1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092A-946D-4E71-8080-0DE64408DC9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Different exchange kinds, each of th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behaves differently at global domain boundar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p_exch_kind      =  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plus_exch_kind  =  2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_exch_kind      =  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u_exch_kind     =  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plus_exch_kind  =  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_exch_kind      =  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v_exch_kind     =  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f_exch_kind     =  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s_exch_kind      =  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sminus_exch_kind = 1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Usage of yaxt-modifiers to simplify definitions o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Decomposi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Real world example:</a:t>
            </a:r>
            <a:br>
              <a:rPr sz="2800"/>
            </a:b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MPIOM bounds-exchange with modif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7AF8-9693-4A71-9200-E8E0FE447C6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3AEF-F1B3-4AB9-98A4-B74A3946CEB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1547640" y="1557360"/>
          <a:ext cx="2602080" cy="1482840"/>
        </p:xfrm>
        <a:graphic>
          <a:graphicData uri="http://schemas.openxmlformats.org/drawingml/2006/table">
            <a:tbl>
              <a:tblPr/>
              <a:tblGrid>
                <a:gridCol w="433440"/>
                <a:gridCol w="433440"/>
                <a:gridCol w="434880"/>
                <a:gridCol w="433440"/>
                <a:gridCol w="433440"/>
                <a:gridCol w="4334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Simplified incomplete bounds-exchange examp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CB2B-0E93-4526-90E6-C56F8F1495F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4792-48DE-4518-BD74-599822FF0FE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5148360" y="1557360"/>
          <a:ext cx="2601720" cy="1482840"/>
        </p:xfrm>
        <a:graphic>
          <a:graphicData uri="http://schemas.openxmlformats.org/drawingml/2006/table">
            <a:tbl>
              <a:tblPr/>
              <a:tblGrid>
                <a:gridCol w="433440"/>
                <a:gridCol w="433080"/>
                <a:gridCol w="435240"/>
                <a:gridCol w="433440"/>
                <a:gridCol w="433080"/>
                <a:gridCol w="4334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363" name="Textfeld 8"/>
          <p:cNvSpPr/>
          <p:nvPr/>
        </p:nvSpPr>
        <p:spPr>
          <a:xfrm>
            <a:off x="1279080" y="119700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source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feld 9"/>
          <p:cNvSpPr/>
          <p:nvPr/>
        </p:nvSpPr>
        <p:spPr>
          <a:xfrm>
            <a:off x="4951080" y="119700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target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feld 10"/>
          <p:cNvSpPr/>
          <p:nvPr/>
        </p:nvSpPr>
        <p:spPr>
          <a:xfrm>
            <a:off x="868320" y="3500280"/>
            <a:ext cx="68497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r 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[1,7,13,19]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,11,17,23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[6,12,18,24]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,8,14,2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(I) =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feld 11"/>
          <p:cNvSpPr/>
          <p:nvPr/>
        </p:nvSpPr>
        <p:spPr>
          <a:xfrm>
            <a:off x="852480" y="4581360"/>
            <a:ext cx="40320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source indices (including hal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[15,16,17,18,21,22,23,2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target indices (including hal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M(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[15,16,17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21,22,23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feld 12"/>
          <p:cNvSpPr/>
          <p:nvPr/>
        </p:nvSpPr>
        <p:spPr>
          <a:xfrm>
            <a:off x="5219640" y="4508640"/>
            <a:ext cx="30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r can be applied to any index 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included 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hange of inner ha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DF53-3BE5-4CAF-86E1-3156F5E0945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FFC2-B466-4C02-BBCD-85708427ABF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ompleting the bounds-exchange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ihandform 9"/>
          <p:cNvSpPr/>
          <p:nvPr/>
        </p:nvSpPr>
        <p:spPr>
          <a:xfrm>
            <a:off x="198360" y="1554120"/>
            <a:ext cx="4722840" cy="1463760"/>
          </a:xfrm>
          <a:custGeom>
            <a:avLst/>
            <a:gdLst>
              <a:gd name="textAreaLeft" fmla="*/ 0 w 4722840"/>
              <a:gd name="textAreaRight" fmla="*/ 4723200 w 4722840"/>
              <a:gd name="textAreaTop" fmla="*/ 0 h 1463760"/>
              <a:gd name="textAreaBottom" fmla="*/ 1464120 h 14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ihandform 10"/>
          <p:cNvSpPr/>
          <p:nvPr/>
        </p:nvSpPr>
        <p:spPr>
          <a:xfrm>
            <a:off x="393840" y="1800360"/>
            <a:ext cx="4297320" cy="1279440"/>
          </a:xfrm>
          <a:custGeom>
            <a:avLst/>
            <a:gdLst>
              <a:gd name="textAreaLeft" fmla="*/ 0 w 4297320"/>
              <a:gd name="textAreaRight" fmla="*/ 4297680 w 4297320"/>
              <a:gd name="textAreaTop" fmla="*/ 0 h 1279440"/>
              <a:gd name="textAreaBottom" fmla="*/ 1279800 h 127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ihandform 11"/>
          <p:cNvSpPr/>
          <p:nvPr/>
        </p:nvSpPr>
        <p:spPr>
          <a:xfrm>
            <a:off x="19836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ihandform 12"/>
          <p:cNvSpPr/>
          <p:nvPr/>
        </p:nvSpPr>
        <p:spPr>
          <a:xfrm>
            <a:off x="470844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ihandform 13"/>
          <p:cNvSpPr/>
          <p:nvPr/>
        </p:nvSpPr>
        <p:spPr>
          <a:xfrm>
            <a:off x="411120" y="1736640"/>
            <a:ext cx="1463760" cy="45720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ihandform 14"/>
          <p:cNvSpPr/>
          <p:nvPr/>
        </p:nvSpPr>
        <p:spPr>
          <a:xfrm>
            <a:off x="4464000" y="1736640"/>
            <a:ext cx="244440" cy="128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ihandform 15"/>
          <p:cNvSpPr/>
          <p:nvPr/>
        </p:nvSpPr>
        <p:spPr>
          <a:xfrm>
            <a:off x="41112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ihandform 16"/>
          <p:cNvSpPr/>
          <p:nvPr/>
        </p:nvSpPr>
        <p:spPr>
          <a:xfrm>
            <a:off x="1874880" y="1736640"/>
            <a:ext cx="2833560" cy="457200"/>
          </a:xfrm>
          <a:custGeom>
            <a:avLst/>
            <a:gdLst>
              <a:gd name="textAreaLeft" fmla="*/ 0 w 2833560"/>
              <a:gd name="textAreaRight" fmla="*/ 2833920 w 28335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ihandform 17"/>
          <p:cNvSpPr/>
          <p:nvPr/>
        </p:nvSpPr>
        <p:spPr>
          <a:xfrm>
            <a:off x="411120" y="2193840"/>
            <a:ext cx="2835360" cy="82404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ihandform 18"/>
          <p:cNvSpPr/>
          <p:nvPr/>
        </p:nvSpPr>
        <p:spPr>
          <a:xfrm>
            <a:off x="3246480" y="2193840"/>
            <a:ext cx="1461960" cy="824040"/>
          </a:xfrm>
          <a:custGeom>
            <a:avLst/>
            <a:gdLst>
              <a:gd name="textAreaLeft" fmla="*/ 0 w 1461960"/>
              <a:gd name="textAreaRight" fmla="*/ 1462320 w 14619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ihandform 19"/>
          <p:cNvSpPr/>
          <p:nvPr/>
        </p:nvSpPr>
        <p:spPr>
          <a:xfrm>
            <a:off x="166680" y="3840120"/>
            <a:ext cx="1828800" cy="82404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ihandform 20"/>
          <p:cNvSpPr/>
          <p:nvPr/>
        </p:nvSpPr>
        <p:spPr>
          <a:xfrm>
            <a:off x="3459240" y="4754520"/>
            <a:ext cx="1828800" cy="10065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ihandform 21"/>
          <p:cNvSpPr/>
          <p:nvPr/>
        </p:nvSpPr>
        <p:spPr>
          <a:xfrm>
            <a:off x="166680" y="4754520"/>
            <a:ext cx="3200400" cy="10065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ihandform 22"/>
          <p:cNvSpPr/>
          <p:nvPr/>
        </p:nvSpPr>
        <p:spPr>
          <a:xfrm>
            <a:off x="2087640" y="3840120"/>
            <a:ext cx="3200400" cy="82404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ihandform 23"/>
          <p:cNvSpPr/>
          <p:nvPr/>
        </p:nvSpPr>
        <p:spPr>
          <a:xfrm>
            <a:off x="16668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ihandform 24"/>
          <p:cNvSpPr/>
          <p:nvPr/>
        </p:nvSpPr>
        <p:spPr>
          <a:xfrm>
            <a:off x="349200" y="4022640"/>
            <a:ext cx="1463760" cy="45720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ihandform 25"/>
          <p:cNvSpPr/>
          <p:nvPr/>
        </p:nvSpPr>
        <p:spPr>
          <a:xfrm>
            <a:off x="349200" y="4022640"/>
            <a:ext cx="184320" cy="457200"/>
          </a:xfrm>
          <a:custGeom>
            <a:avLst/>
            <a:gdLst>
              <a:gd name="textAreaLeft" fmla="*/ 0 w 184320"/>
              <a:gd name="textAreaRight" fmla="*/ 184680 w 184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ihandform 26"/>
          <p:cNvSpPr/>
          <p:nvPr/>
        </p:nvSpPr>
        <p:spPr>
          <a:xfrm>
            <a:off x="3641760" y="44798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ihandform 27"/>
          <p:cNvSpPr/>
          <p:nvPr/>
        </p:nvSpPr>
        <p:spPr>
          <a:xfrm>
            <a:off x="2270160" y="4022640"/>
            <a:ext cx="2835360" cy="45720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ihandform 28"/>
          <p:cNvSpPr/>
          <p:nvPr/>
        </p:nvSpPr>
        <p:spPr>
          <a:xfrm>
            <a:off x="16668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ihandform 29"/>
          <p:cNvSpPr/>
          <p:nvPr/>
        </p:nvSpPr>
        <p:spPr>
          <a:xfrm>
            <a:off x="349200" y="4937040"/>
            <a:ext cx="2835360" cy="82404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ihandform 30"/>
          <p:cNvSpPr/>
          <p:nvPr/>
        </p:nvSpPr>
        <p:spPr>
          <a:xfrm>
            <a:off x="345924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ihandform 31"/>
          <p:cNvSpPr/>
          <p:nvPr/>
        </p:nvSpPr>
        <p:spPr>
          <a:xfrm>
            <a:off x="3641760" y="4937040"/>
            <a:ext cx="1463760" cy="82404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ihandform 32"/>
          <p:cNvSpPr/>
          <p:nvPr/>
        </p:nvSpPr>
        <p:spPr>
          <a:xfrm>
            <a:off x="163044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ihandform 33"/>
          <p:cNvSpPr/>
          <p:nvPr/>
        </p:nvSpPr>
        <p:spPr>
          <a:xfrm>
            <a:off x="3641760" y="4297320"/>
            <a:ext cx="1433520" cy="182520"/>
          </a:xfrm>
          <a:custGeom>
            <a:avLst/>
            <a:gdLst>
              <a:gd name="textAreaLeft" fmla="*/ 0 w 1433520"/>
              <a:gd name="textAreaRight" fmla="*/ 1433880 w 1433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ihandform 34"/>
          <p:cNvSpPr/>
          <p:nvPr/>
        </p:nvSpPr>
        <p:spPr>
          <a:xfrm>
            <a:off x="227016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ihandform 35"/>
          <p:cNvSpPr/>
          <p:nvPr/>
        </p:nvSpPr>
        <p:spPr>
          <a:xfrm>
            <a:off x="4921200" y="4022640"/>
            <a:ext cx="184320" cy="457200"/>
          </a:xfrm>
          <a:custGeom>
            <a:avLst/>
            <a:gdLst>
              <a:gd name="textAreaLeft" fmla="*/ 0 w 184320"/>
              <a:gd name="textAreaRight" fmla="*/ 184680 w 184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ihandform 36"/>
          <p:cNvSpPr/>
          <p:nvPr/>
        </p:nvSpPr>
        <p:spPr>
          <a:xfrm>
            <a:off x="349200" y="4937040"/>
            <a:ext cx="184320" cy="824040"/>
          </a:xfrm>
          <a:custGeom>
            <a:avLst/>
            <a:gdLst>
              <a:gd name="textAreaLeft" fmla="*/ 0 w 184320"/>
              <a:gd name="textAreaRight" fmla="*/ 184680 w 184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3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ihandform 37"/>
          <p:cNvSpPr/>
          <p:nvPr/>
        </p:nvSpPr>
        <p:spPr>
          <a:xfrm>
            <a:off x="300204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ihandform 38"/>
          <p:cNvSpPr/>
          <p:nvPr/>
        </p:nvSpPr>
        <p:spPr>
          <a:xfrm>
            <a:off x="349200" y="4937040"/>
            <a:ext cx="1494000" cy="1843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ihandform 39"/>
          <p:cNvSpPr/>
          <p:nvPr/>
        </p:nvSpPr>
        <p:spPr>
          <a:xfrm>
            <a:off x="349200" y="4297320"/>
            <a:ext cx="1463760" cy="182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ihandform 40"/>
          <p:cNvSpPr/>
          <p:nvPr/>
        </p:nvSpPr>
        <p:spPr>
          <a:xfrm>
            <a:off x="3641760" y="49370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ihandform 41"/>
          <p:cNvSpPr/>
          <p:nvPr/>
        </p:nvSpPr>
        <p:spPr>
          <a:xfrm>
            <a:off x="364176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ihandform 42"/>
          <p:cNvSpPr/>
          <p:nvPr/>
        </p:nvSpPr>
        <p:spPr>
          <a:xfrm>
            <a:off x="4921200" y="4937040"/>
            <a:ext cx="184320" cy="824040"/>
          </a:xfrm>
          <a:custGeom>
            <a:avLst/>
            <a:gdLst>
              <a:gd name="textAreaLeft" fmla="*/ 0 w 184320"/>
              <a:gd name="textAreaRight" fmla="*/ 184680 w 184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ihandform 43"/>
          <p:cNvSpPr/>
          <p:nvPr/>
        </p:nvSpPr>
        <p:spPr>
          <a:xfrm>
            <a:off x="181296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ihandform 44"/>
          <p:cNvSpPr/>
          <p:nvPr/>
        </p:nvSpPr>
        <p:spPr>
          <a:xfrm>
            <a:off x="318456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ihandform 45"/>
          <p:cNvSpPr/>
          <p:nvPr/>
        </p:nvSpPr>
        <p:spPr>
          <a:xfrm>
            <a:off x="510552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ihandform 46"/>
          <p:cNvSpPr/>
          <p:nvPr/>
        </p:nvSpPr>
        <p:spPr>
          <a:xfrm>
            <a:off x="349200" y="4754520"/>
            <a:ext cx="1494000" cy="1825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ihandform 47"/>
          <p:cNvSpPr/>
          <p:nvPr/>
        </p:nvSpPr>
        <p:spPr>
          <a:xfrm>
            <a:off x="3641760" y="4754520"/>
            <a:ext cx="1463760" cy="182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ihandform 48"/>
          <p:cNvSpPr/>
          <p:nvPr/>
        </p:nvSpPr>
        <p:spPr>
          <a:xfrm>
            <a:off x="349200" y="44798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ihandform 49"/>
          <p:cNvSpPr/>
          <p:nvPr/>
        </p:nvSpPr>
        <p:spPr>
          <a:xfrm>
            <a:off x="16668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ihandform 50"/>
          <p:cNvSpPr/>
          <p:nvPr/>
        </p:nvSpPr>
        <p:spPr>
          <a:xfrm>
            <a:off x="181296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ihandform 51"/>
          <p:cNvSpPr/>
          <p:nvPr/>
        </p:nvSpPr>
        <p:spPr>
          <a:xfrm>
            <a:off x="16668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ihandform 52"/>
          <p:cNvSpPr/>
          <p:nvPr/>
        </p:nvSpPr>
        <p:spPr>
          <a:xfrm>
            <a:off x="1843200" y="4754520"/>
            <a:ext cx="1341360" cy="18252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ihandform 53"/>
          <p:cNvSpPr/>
          <p:nvPr/>
        </p:nvSpPr>
        <p:spPr>
          <a:xfrm>
            <a:off x="318456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ihandform 54"/>
          <p:cNvSpPr/>
          <p:nvPr/>
        </p:nvSpPr>
        <p:spPr>
          <a:xfrm>
            <a:off x="345924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ihandform 55"/>
          <p:cNvSpPr/>
          <p:nvPr/>
        </p:nvSpPr>
        <p:spPr>
          <a:xfrm>
            <a:off x="510552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ihandform 56"/>
          <p:cNvSpPr/>
          <p:nvPr/>
        </p:nvSpPr>
        <p:spPr>
          <a:xfrm>
            <a:off x="2270160" y="4479840"/>
            <a:ext cx="1371600" cy="1843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ihandform 57"/>
          <p:cNvSpPr/>
          <p:nvPr/>
        </p:nvSpPr>
        <p:spPr>
          <a:xfrm>
            <a:off x="208764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ihandform 58"/>
          <p:cNvSpPr/>
          <p:nvPr/>
        </p:nvSpPr>
        <p:spPr>
          <a:xfrm>
            <a:off x="208764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ihandform 59"/>
          <p:cNvSpPr/>
          <p:nvPr/>
        </p:nvSpPr>
        <p:spPr>
          <a:xfrm>
            <a:off x="510552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ihandform 60"/>
          <p:cNvSpPr/>
          <p:nvPr/>
        </p:nvSpPr>
        <p:spPr>
          <a:xfrm>
            <a:off x="510552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ihandform 61"/>
          <p:cNvSpPr/>
          <p:nvPr/>
        </p:nvSpPr>
        <p:spPr>
          <a:xfrm>
            <a:off x="1843200" y="4937040"/>
            <a:ext cx="1341360" cy="18432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ihandform 62"/>
          <p:cNvSpPr/>
          <p:nvPr/>
        </p:nvSpPr>
        <p:spPr>
          <a:xfrm>
            <a:off x="2270160" y="4297320"/>
            <a:ext cx="1371600" cy="182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feld 63"/>
          <p:cNvSpPr/>
          <p:nvPr/>
        </p:nvSpPr>
        <p:spPr>
          <a:xfrm>
            <a:off x="5472000" y="127332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lobal domain ha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- described by mod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feld 64"/>
          <p:cNvSpPr/>
          <p:nvPr/>
        </p:nvSpPr>
        <p:spPr>
          <a:xfrm>
            <a:off x="5472000" y="367020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l sub-domain ha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epend on stencil ex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l border definition done by user-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feld 65"/>
          <p:cNvSpPr/>
          <p:nvPr/>
        </p:nvSpPr>
        <p:spPr>
          <a:xfrm>
            <a:off x="214200" y="2995560"/>
            <a:ext cx="43722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de-DE" sz="1800" spc="-1" strike="noStrike">
                <a:solidFill>
                  <a:srgbClr val="0070c0"/>
                </a:solidFill>
                <a:latin typeface="Tahoma"/>
                <a:ea typeface="Tahoma"/>
              </a:rPr>
              <a:t>Source</a:t>
            </a:r>
            <a:r>
              <a:rPr b="0" lang="de-DE" sz="1800" spc="-1" strike="noStrike" baseline="-25000">
                <a:solidFill>
                  <a:srgbClr val="0070c0"/>
                </a:solidFill>
                <a:latin typeface="Tahoma"/>
                <a:ea typeface="Tahoma"/>
              </a:rPr>
              <a:t>i       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Tahoma"/>
                <a:ea typeface="Tahoma"/>
              </a:rPr>
              <a:t>   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         Target</a:t>
            </a:r>
            <a:r>
              <a:rPr b="0" lang="de-DE" sz="1800" spc="-1" strike="noStrike" baseline="-25000">
                <a:solidFill>
                  <a:srgbClr val="c00000"/>
                </a:solidFill>
                <a:latin typeface="Tahoma"/>
                <a:ea typeface="Tahoma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Nach unten gekrümmter Pfeil 66"/>
          <p:cNvSpPr/>
          <p:nvPr/>
        </p:nvSpPr>
        <p:spPr>
          <a:xfrm>
            <a:off x="441360" y="1449360"/>
            <a:ext cx="4572000" cy="638280"/>
          </a:xfrm>
          <a:custGeom>
            <a:avLst/>
            <a:gdLst>
              <a:gd name="textAreaLeft" fmla="*/ 1082880 w 4572000"/>
              <a:gd name="textAreaRight" fmla="*/ 3409200 w 4572000"/>
              <a:gd name="textAreaTop" fmla="*/ 85320 h 638280"/>
              <a:gd name="textAreaBottom" fmla="*/ 552960 h 638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35" hR="21600" stAng="10800000" swAng="5400000"/>
                <a:lnTo>
                  <a:pt x="10989" y="0"/>
                </a:lnTo>
                <a:arcTo wR="10235" hR="21600" stAng="-5400000" swAng="3684760"/>
                <a:lnTo>
                  <a:pt x="21275" y="16200"/>
                </a:lnTo>
                <a:lnTo>
                  <a:pt x="20846" y="21600"/>
                </a:lnTo>
                <a:lnTo>
                  <a:pt x="19767" y="16200"/>
                </a:lnTo>
                <a:lnTo>
                  <a:pt x="20144" y="16200"/>
                </a:lnTo>
                <a:arcTo wR="10235" hR="21600" stAng="-1715240" swAng="-3624724"/>
                <a:lnTo>
                  <a:pt x="10612" y="15"/>
                </a:lnTo>
                <a:arcTo wR="10235" hR="21600" stAng="-5460036" swAng="-5339964"/>
                <a:close/>
              </a:path>
              <a:path fill="darkenLess" w="21600" h="21600">
                <a:moveTo>
                  <a:pt x="0" y="21600"/>
                </a:moveTo>
                <a:arcTo wR="10235" hR="21600" stAng="10800000" swAng="5400000"/>
                <a:lnTo>
                  <a:pt x="10235" y="0"/>
                </a:lnTo>
                <a:arcTo wR="10235" hR="21600" stAng="-5400000" swAng="60036"/>
                <a:lnTo>
                  <a:pt x="10612" y="15"/>
                </a:lnTo>
                <a:arcTo wR="10235" hR="21600" stAng="-5460036" swAng="-5339964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Nach unten gekrümmter Pfeil 67"/>
          <p:cNvSpPr/>
          <p:nvPr/>
        </p:nvSpPr>
        <p:spPr>
          <a:xfrm rot="10800000">
            <a:off x="136440" y="2374200"/>
            <a:ext cx="4572000" cy="639720"/>
          </a:xfrm>
          <a:custGeom>
            <a:avLst/>
            <a:gdLst>
              <a:gd name="textAreaLeft" fmla="*/ 1082880 w 4572000"/>
              <a:gd name="textAreaRight" fmla="*/ 3409200 w 4572000"/>
              <a:gd name="textAreaTop" fmla="*/ 85680 h 639720"/>
              <a:gd name="textAreaBottom" fmla="*/ 554040 h 639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34" hR="21600" stAng="10800000" swAng="5400000"/>
                <a:lnTo>
                  <a:pt x="10989" y="0"/>
                </a:lnTo>
                <a:arcTo wR="10234" hR="21600" stAng="-5400000" swAng="3684619"/>
                <a:lnTo>
                  <a:pt x="21275" y="16200"/>
                </a:lnTo>
                <a:lnTo>
                  <a:pt x="20845" y="21600"/>
                </a:lnTo>
                <a:lnTo>
                  <a:pt x="19764" y="16200"/>
                </a:lnTo>
                <a:lnTo>
                  <a:pt x="20142" y="16200"/>
                </a:lnTo>
                <a:arcTo wR="10234" hR="21600" stAng="-1715381" swAng="-3624503"/>
                <a:lnTo>
                  <a:pt x="10611" y="15"/>
                </a:lnTo>
                <a:arcTo wR="10234" hR="21600" stAng="-5460116" swAng="-5339884"/>
                <a:close/>
              </a:path>
              <a:path fill="darkenLess" w="21600" h="21600">
                <a:moveTo>
                  <a:pt x="0" y="21600"/>
                </a:moveTo>
                <a:arcTo wR="10234" hR="21600" stAng="10800000" swAng="5400000"/>
                <a:lnTo>
                  <a:pt x="10234" y="0"/>
                </a:lnTo>
                <a:arcTo wR="10234" hR="21600" stAng="-5400000" swAng="60116"/>
                <a:lnTo>
                  <a:pt x="10611" y="15"/>
                </a:lnTo>
                <a:arcTo wR="10234" hR="21600" stAng="-5460116" swAng="-5339884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feil nach rechts 68"/>
          <p:cNvSpPr/>
          <p:nvPr/>
        </p:nvSpPr>
        <p:spPr>
          <a:xfrm>
            <a:off x="1874880" y="3166920"/>
            <a:ext cx="547560" cy="17964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Inhaltsplatzhalter 6" descr=""/>
          <p:cNvPicPr/>
          <p:nvPr/>
        </p:nvPicPr>
        <p:blipFill>
          <a:blip r:embed="rId1"/>
          <a:srcRect l="0" t="0" r="0" b="27138"/>
          <a:stretch/>
        </p:blipFill>
        <p:spPr>
          <a:xfrm>
            <a:off x="654120" y="2009880"/>
            <a:ext cx="7835760" cy="343512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6738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MPIOM 3d-bounds-exchange measur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73A2-2609-41A6-A438-212CC6F4847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60B9-62C8-40F5-95F0-8554B13147C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feld 8"/>
          <p:cNvSpPr/>
          <p:nvPr/>
        </p:nvSpPr>
        <p:spPr>
          <a:xfrm>
            <a:off x="1403280" y="141444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written – requires symmetric regular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feld 9"/>
          <p:cNvSpPr/>
          <p:nvPr/>
        </p:nvSpPr>
        <p:spPr>
          <a:xfrm>
            <a:off x="5508720" y="14144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rans/YAXT gener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3919-2CF9-46F8-942D-423F3C2E8F8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DA77-6F7F-4FCD-B0D3-3D07A608137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2040" y="3492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MPIOM [TP04L40: 8x4] Load Bal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Grafik 17" descr=""/>
          <p:cNvPicPr/>
          <p:nvPr/>
        </p:nvPicPr>
        <p:blipFill>
          <a:blip r:embed="rId1"/>
          <a:stretch/>
        </p:blipFill>
        <p:spPr>
          <a:xfrm>
            <a:off x="63360" y="1089000"/>
            <a:ext cx="5029200" cy="2532240"/>
          </a:xfrm>
          <a:prstGeom prst="rect">
            <a:avLst/>
          </a:prstGeom>
          <a:ln w="0">
            <a:noFill/>
          </a:ln>
        </p:spPr>
      </p:pic>
      <p:pic>
        <p:nvPicPr>
          <p:cNvPr id="444" name="Grafik 18" descr=""/>
          <p:cNvPicPr/>
          <p:nvPr/>
        </p:nvPicPr>
        <p:blipFill>
          <a:blip r:embed="rId2"/>
          <a:stretch/>
        </p:blipFill>
        <p:spPr>
          <a:xfrm>
            <a:off x="55440" y="3875040"/>
            <a:ext cx="5029200" cy="2532240"/>
          </a:xfrm>
          <a:prstGeom prst="rect">
            <a:avLst/>
          </a:prstGeom>
          <a:ln w="0">
            <a:noFill/>
          </a:ln>
        </p:spPr>
      </p:pic>
      <p:sp>
        <p:nvSpPr>
          <p:cNvPr id="445" name="Textfeld 19"/>
          <p:cNvSpPr/>
          <p:nvPr/>
        </p:nvSpPr>
        <p:spPr>
          <a:xfrm>
            <a:off x="5472000" y="1268280"/>
            <a:ext cx="3421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et-point-only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kload 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Unfit legacy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Nothing g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feld 20"/>
          <p:cNvSpPr/>
          <p:nvPr/>
        </p:nvSpPr>
        <p:spPr>
          <a:xfrm>
            <a:off x="5472000" y="3875040"/>
            <a:ext cx="3600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dapted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Old boundary exchange f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eprogramming ex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AXT-formu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ks for both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Support asynchronous re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-Place re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Multi-Phase excha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Use YAXT in MPIOM, ECHAM, ICON and CDI-P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Future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6ADD-8AF7-477C-BB4D-5B37DC5FB96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0457-F10D-45AB-828D-D0AC29FF4C5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262626"/>
                </a:solidFill>
                <a:latin typeface="Tahoma"/>
                <a:ea typeface="Tahoma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Documentation:</a:t>
            </a:r>
            <a:br>
              <a:rPr sz="2400"/>
            </a:b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1"/>
              </a:rPr>
              <a:t>https://redmine.dkrz.de/doc/yaxt/html/index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mi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2"/>
              </a:rPr>
              <a:t>https://www.dkrz.de/redmine/projects/ya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Downloa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3"/>
              </a:rPr>
              <a:t>https://www.dkrz.de/redmine/projects/yaxt/wiki/Downloa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928600" y="423360"/>
            <a:ext cx="542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404040"/>
              </a:solidFill>
              <a:latin typeface="Tahoma"/>
              <a:ea typeface="Tahoma"/>
            </a:endParaRPr>
          </a:p>
        </p:txBody>
      </p:sp>
      <p:sp>
        <p:nvSpPr>
          <p:cNvPr id="4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C608-F16F-43E8-B62B-FF13FC79A3E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251F-4041-4376-AD17-98626D2EA95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itial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ach process defines what data it has and what it wants (source and target decompositio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Generate a mapping between source and target decomposi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Generate data type specific redistribution object for a given mapp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ime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Do the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Final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Clean 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How it 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A562-24CE-4630-A985-D6F0EDC0E251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0825-12C3-4721-A4E2-860813E84BB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All data elements have the same memory layout and are stored in an array (C makes no difference between 1D and nD-array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ach data object has a unique global id (intege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 decomposition is a list of global data element i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positions of the global ids within the set correspond to the positions of the respective data elements within the data array (if nothing else is said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efining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E192-0764-42CF-8622-A9FB6F46131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47BF-CE03-4F82-9ECC-F1D3D3BDB80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generate a mapping you need to provide the two decompositions and a MPI communic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operation is collective for all processes within the given communic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BF66-568A-499D-BDBC-2B63EC8841D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9F45-8F3E-4D04-AD97-EB7302788F5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generate a data specific redistribution object the user needs to provide a mapping object and the MPI data type for the data el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t is possible to combine multiple existing redistribution objects (useful for aggregation of data exchang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3DC0-26A9-4498-AA27-07AF6744D83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523E-2071-4A9F-8B75-376E2530A49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do the exchange the user needs to call the exchange routine and provide a redistribution object and the source and target array(s) (passed via C_LOC from Fortra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ll objects generated by YAXT can be destroyed by calling the respective destruc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 and clea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AFFC-3B65-4DCD-B783-B28E7A57D65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F844-6FA8-491B-881B-123625A2019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26"/>
                </a:solidFill>
                <a:latin typeface="Tahoma"/>
                <a:ea typeface="Tahoma"/>
              </a:rPr>
              <a:t>Gather on rank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5610240" cy="1457280"/>
          </a:xfrm>
          <a:prstGeom prst="rect">
            <a:avLst/>
          </a:prstGeom>
          <a:ln w="0">
            <a:noFill/>
          </a:ln>
        </p:spPr>
      </p:pic>
      <p:sp>
        <p:nvSpPr>
          <p:cNvPr id="177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10E1-D664-4E4B-8764-39AA2B97021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liennummernplatzhalter 6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5BF3-EDF4-41FE-857F-2E3607EE474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07:51:59Z</dcterms:created>
  <dc:creator/>
  <dc:description/>
  <dc:language>en-US</dc:language>
  <cp:lastModifiedBy/>
  <dcterms:modified xsi:type="dcterms:W3CDTF">2013-06-07T09:37:03Z</dcterms:modified>
  <cp:revision>50</cp:revision>
  <dc:subject/>
  <dc:title>Introduction to YAXT</dc:title>
</cp:coreProperties>
</file>