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718300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7176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4"/>
          </p:nvPr>
        </p:nvSpPr>
        <p:spPr>
          <a:xfrm>
            <a:off x="3805200" y="-36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5"/>
          </p:nvPr>
        </p:nvSpPr>
        <p:spPr>
          <a:xfrm>
            <a:off x="-360" y="9361080"/>
            <a:ext cx="291132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6"/>
          </p:nvPr>
        </p:nvSpPr>
        <p:spPr>
          <a:xfrm>
            <a:off x="3805200" y="9361080"/>
            <a:ext cx="291168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38283-FC29-415F-85CE-3D807E97A8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93E0-2727-4752-992C-CCE5F2CA0F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: source only uses single index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044B-75EF-4B27-856A-5029994CD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AEEA5-E4AA-4637-99BC-EEFF8223E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7A7A-D1CC-46EA-B3BD-4027C613A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5971-FE95-4FE5-ACEE-3694F77DB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colour symbolizes a process holding some part of the dat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nt on boundary exch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A47A3-1DE8-4B53-BE9A-B9AEFBDB2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BE4B-ED14-4ECC-A06C-9210B26688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A038-1A76-45A7-9668-0A2B6ED186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difiers are defined using Index-lis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hould be described in a compac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8B4A-3B07-49F8-827E-E70BBBFE70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700A-1341-41A5-8B23-7DA15F3DA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fixed offsets occur with dynamic array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B2E07-7B1B-4DEF-8200-17679C915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FA02-77EB-4848-8002-5A2FE0A0F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7EFC2-1A94-4472-9168-520A8BFE1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E86C-7383-42F5-A461-D49BF4AA6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installed on blizz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D27C-68FB-42EF-BA58-9EC5D00BD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B33E-63C9-4686-AF67-D10D67DDA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B4471-FBF7-421D-A33A-70003746AD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E63E-D176-422F-80C3-C1E214F5C9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CB1A8-7596-45E2-A1BA-F1B1C0DAE06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91BC-164A-4653-B8B3-E41C4CCC7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5070-0C1A-4DA8-A34C-C4E9BD9C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A07-54D4-4BEE-9054-FDD817122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ay-Layout can be faked, we really only need properly aligned elem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imple example on white-boar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A57C-D6C1-4EC7-8106-0DCB76AC4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439F0-2176-4C75-A229-83792D365D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696E-B465-47DF-9382-3CAB25E70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60C8-621B-4959-B425-5CA33A43E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895320" y="739800"/>
            <a:ext cx="4927680" cy="36957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71400" y="4681080"/>
            <a:ext cx="5375520" cy="44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Foliennummernplatzhalter 3"/>
          <p:cNvSpPr/>
          <p:nvPr/>
        </p:nvSpPr>
        <p:spPr>
          <a:xfrm>
            <a:off x="3805200" y="9361440"/>
            <a:ext cx="291168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157B-F7C4-469C-83AF-11E25AB6C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BD17-8477-4A7D-8895-67B8395E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29E86-5191-4DD1-BAC7-0E4EFC60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D9F9C-9821-4887-B980-F0A6CDB3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77CA-8B98-4ACF-906C-EA15E32FE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E6B5-1B9F-4495-8921-967B74679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F04DF-30EB-491D-A4B5-B7AA548BA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1CF0-2AAC-4395-888F-087BD107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29E94-FD9D-401A-8CF4-B831631DD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EEA9-F54C-4B58-88EB-CBF68A2A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F5E1EF-A8F9-4CD7-BB6A-6DE38D92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D398F-3209-418A-9925-E45454E2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1C2D5-7B85-4850-A1EC-945F3C236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42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5084640" y="785880"/>
            <a:ext cx="3273480" cy="1158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2"/>
          <a:srcRect l="0" t="3158" r="1026" b="0"/>
          <a:stretch/>
        </p:blipFill>
        <p:spPr>
          <a:xfrm>
            <a:off x="0" y="0"/>
            <a:ext cx="7848720" cy="1500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3"/>
          <a:srcRect l="1318" t="0" r="0" b="0"/>
          <a:stretch/>
        </p:blipFill>
        <p:spPr>
          <a:xfrm>
            <a:off x="1741320" y="5286240"/>
            <a:ext cx="7425000" cy="1576440"/>
          </a:xfrm>
          <a:prstGeom prst="rect">
            <a:avLst/>
          </a:prstGeom>
          <a:ln w="0">
            <a:noFill/>
          </a:ln>
        </p:spPr>
      </p:pic>
      <p:pic>
        <p:nvPicPr>
          <p:cNvPr id="83" name="Grafik 5" descr="dkrz_logo_mit_unterzeile_rz_ohne_serifen_cmyk.tif"/>
          <p:cNvPicPr/>
          <p:nvPr/>
        </p:nvPicPr>
        <p:blipFill>
          <a:blip r:embed="rId4"/>
          <a:stretch/>
        </p:blipFill>
        <p:spPr>
          <a:xfrm>
            <a:off x="88920" y="6075360"/>
            <a:ext cx="1482840" cy="525600"/>
          </a:xfrm>
          <a:prstGeom prst="rect">
            <a:avLst/>
          </a:prstGeom>
          <a:ln w="0">
            <a:noFill/>
          </a:ln>
        </p:spPr>
      </p:pic>
      <p:sp>
        <p:nvSpPr>
          <p:cNvPr id="84" name="Rechteck 6"/>
          <p:cNvSpPr/>
          <p:nvPr/>
        </p:nvSpPr>
        <p:spPr>
          <a:xfrm>
            <a:off x="1726920" y="6121440"/>
            <a:ext cx="727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© DKRZ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Gerade Verbindung 7"/>
          <p:cNvSpPr/>
          <p:nvPr/>
        </p:nvSpPr>
        <p:spPr>
          <a:xfrm>
            <a:off x="3211560" y="6119640"/>
            <a:ext cx="1440" cy="48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oliennummernplatzhalter 5"/>
          <p:cNvSpPr/>
          <p:nvPr/>
        </p:nvSpPr>
        <p:spPr>
          <a:xfrm>
            <a:off x="8767800" y="6572160"/>
            <a:ext cx="420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feld 9"/>
          <p:cNvSpPr/>
          <p:nvPr/>
        </p:nvSpPr>
        <p:spPr>
          <a:xfrm>
            <a:off x="8750160" y="6573960"/>
            <a:ext cx="393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/3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Num" idx="1"/>
          </p:nvPr>
        </p:nvSpPr>
        <p:spPr>
          <a:xfrm>
            <a:off x="813096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273F7-4C80-41C1-9400-4D4C35A2FE84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dt" idx="2"/>
          </p:nvPr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546B-4741-4888-897E-53F7A8D95F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3"/>
          </p:nvPr>
        </p:nvSpPr>
        <p:spPr>
          <a:xfrm>
            <a:off x="3244680" y="6117840"/>
            <a:ext cx="2143440" cy="47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100" spc="-1" strike="noStrike">
                <a:solidFill>
                  <a:srgbClr val="595959"/>
                </a:solidFill>
                <a:latin typeface="Tahom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csmr.ca.sandia.gov/~apinar/papers/siampp00.pdf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redmine.dkrz.de/doc/yaxt/html/index.html" TargetMode="External"/><Relationship Id="rId2" Type="http://schemas.openxmlformats.org/officeDocument/2006/relationships/hyperlink" Target="https://www.dkrz.de/redmine/projects/yaxt" TargetMode="External"/><Relationship Id="rId3" Type="http://schemas.openxmlformats.org/officeDocument/2006/relationships/hyperlink" Target="https://www.dkrz.de/redmine/projects/yaxt/wiki/Downloads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728640" y="378576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7f7f7f"/>
                </a:solidFill>
                <a:latin typeface="Tahoma"/>
                <a:ea typeface="Tahoma"/>
              </a:rPr>
              <a:t>(Yet Another eXchange Tool, DKRZ 2012-201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7f7f7f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728640" y="2571840"/>
            <a:ext cx="7772400" cy="120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404040"/>
                </a:solidFill>
                <a:latin typeface="Tahoma"/>
                <a:ea typeface="Tahoma"/>
              </a:rPr>
              <a:t>Introduction to YAX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nt src_index = rank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src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(&amp;src_index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 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if (rank == 0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struct Xt_stripe tgt_stripe 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{.start = 0, .nstrides = 4, .stride = 1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xt_idxstripes_new(&amp;tgt_stripe, 1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} el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1" lang="en-GB" sz="2200" spc="-1" strike="noStrike">
                <a:solidFill>
                  <a:srgbClr val="ff0000"/>
                </a:solidFill>
                <a:latin typeface="Courier New"/>
                <a:ea typeface="Tahoma"/>
              </a:rPr>
              <a:t>tgt_idxlist</a:t>
            </a:r>
            <a:r>
              <a:rPr b="0" lang="en-GB" sz="2200" spc="-1" strike="noStrike">
                <a:solidFill>
                  <a:srgbClr val="262626"/>
                </a:solidFill>
                <a:latin typeface="Courier New"/>
                <a:ea typeface="Tahoma"/>
              </a:rPr>
              <a:t> = xt_idxempty_new()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BDC2-1C74-443C-B018-2E9B97D7A91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2C86-0B20-4666-A7EA-EF8C8647AFF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xmap xmap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, tgt_idxlist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0802F-65F0-45AD-93C5-8D603C35961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0E68-D466-4B8F-BF8E-B3DBDF0DBAC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 redist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=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new(xmap, MPI_IN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197F-FF42-488E-BD6B-DDE8CD69FB9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E7C3-4C82-458C-9901-B636509A395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src_data[1] = {…}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int tgt_data[4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(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redist, src_data, tgt_data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delete(red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xmap_delete(xmap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tgt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Courier New"/>
                <a:ea typeface="Tahoma"/>
              </a:rPr>
              <a:t>xt_idxlist_delete(src_idxlis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40F40-5295-4E67-A3C8-3DD8A781C63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E0874-8059-4C23-A38E-427066C5B89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1285920"/>
            <a:ext cx="8229600" cy="37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Transpose from row-wise to column-wis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E96B-19B4-4547-A5BF-E6C5BA4FEE5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14A4D-49F4-4FF6-8021-BE80B62670B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Inhaltsplatzhalter 1"/>
          <p:cNvSpPr/>
          <p:nvPr/>
        </p:nvSpPr>
        <p:spPr>
          <a:xfrm>
            <a:off x="468360" y="5157720"/>
            <a:ext cx="82296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xample program: </a:t>
            </a:r>
            <a:r>
              <a:rPr b="0" lang="en-US" sz="2400" spc="-1" strike="noStrike">
                <a:solidFill>
                  <a:srgbClr val="262626"/>
                </a:solidFill>
                <a:latin typeface="Courier New"/>
                <a:ea typeface="Tahoma"/>
              </a:rPr>
              <a:t>examples/row2col_f.f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Grafik 8" descr="row2col.png"/>
          <p:cNvPicPr/>
          <p:nvPr/>
        </p:nvPicPr>
        <p:blipFill>
          <a:blip r:embed="rId1"/>
          <a:stretch/>
        </p:blipFill>
        <p:spPr>
          <a:xfrm>
            <a:off x="446040" y="2349360"/>
            <a:ext cx="825192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1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-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INT(global_range(:, 2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row_part_range(2, :) –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row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137B-1F25-4C2D-BC7C-5E35A9AEC55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9E08-169D-47FF-A70B-248F0424702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INT(global_range(:,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1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uniform_partition_start(global_range(:, 2)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mm_size, rank + 2)) –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col_part_range(2, :)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- col_part_range(1, :) +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idxlist for column-wise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16F4-B6BB-4201-BD20-BCCE1DFB7DA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3D88-1197-4473-BAD3-F96BCE200B1F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global_range(1:2, 1:2) = RESHAPE((/ 1, 10, 1, 5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/ 2, 2 /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1, 1) =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2, 1) = 7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range(:, 2) = (/ 1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ow_part_shape(:) = (/ 4, 5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:, 1) = (/ 1, 10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1, 2) =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range(2, 2) =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col_part_shape(:) = (/ 10, 2 /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95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for 10x5 global shape and 2</a:t>
            </a:r>
            <a:r>
              <a:rPr b="0" lang="en-US" sz="3200" spc="-1" strike="noStrike" baseline="30000">
                <a:solidFill>
                  <a:srgbClr val="404040"/>
                </a:solidFill>
                <a:latin typeface="Tahoma"/>
                <a:ea typeface="Tahoma"/>
              </a:rPr>
              <a:t>nd</a:t>
            </a: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 (= MPI rank 1) of 3 proces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DBF8-E9FB-4D46-A904-D88298B5862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DC28C-B4E3-440A-BD26-0E99BE2062C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src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row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tgt_idxl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idxfsection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0_xt_int_kind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global_shape, xt_int_kind),  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shape, xt_int_kind),          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INT(col_part_range(1, :), xt_int_kind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decomposition descrip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AE93-12C2-4569-ABF4-92D63D6F9C17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07148-13A9-4718-8F86-137293B7BA6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exchange ma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xmap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xmap_all2all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, tgt_idxlist, &amp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	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mpi_comm_worl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! generate redistribution obje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redist = </a:t>
            </a:r>
            <a:r>
              <a:rPr b="0" lang="de-DE" sz="20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p2p_new</a:t>
            </a:r>
            <a:r>
              <a:rPr b="0" lang="de-DE" sz="2000" spc="-1" strike="noStrike">
                <a:solidFill>
                  <a:srgbClr val="262626"/>
                </a:solidFill>
                <a:latin typeface="Courier New"/>
                <a:ea typeface="Tahoma"/>
              </a:rPr>
              <a:t>(xmap, mpi_double_precisio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reate mapping and re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76BE-7AD8-49B2-B3A0-E65E6032279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4D32-BB40-43FE-AF5A-1FF21679097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85560"/>
            <a:ext cx="82296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f data between two sets of proc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What it do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048720" cy="4122720"/>
          </a:xfrm>
          <a:prstGeom prst="rect">
            <a:avLst/>
          </a:prstGeom>
          <a:ln w="0">
            <a:noFill/>
          </a:ln>
        </p:spPr>
      </p:pic>
      <p:sp>
        <p:nvSpPr>
          <p:cNvPr id="141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95E94-8933-49C3-B8C7-4F821B06EC27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AC26E-CAFD-4D96-B2B5-D03DA40C646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prepare array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ALLOCATE(src_array(row_part_range(1, 1):row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row_part_range(1, 2):row_part_range(2, 2)),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tgt_array(col_part_range(1, 1):col_part_range(2, 1),  &am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&amp;             col_part_range(1, 2):col_part_range(2, 2)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j = row_part_range(1, 2), row_part_range(2, 2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DO i = row_part_range(1, 1), row_part_range(2, 1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src_array(i, j) = DBLE(i * j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END DO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! do the exchan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4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s_exchange1</a:t>
            </a:r>
            <a:r>
              <a:rPr b="0" lang="de-DE" sz="1400" spc="-1" strike="noStrike">
                <a:solidFill>
                  <a:srgbClr val="262626"/>
                </a:solidFill>
                <a:latin typeface="Courier New"/>
                <a:ea typeface="Tahoma"/>
              </a:rPr>
              <a:t>(redist, C_LOC(src_array), C_LOC(tgt_array)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ll source array and redistribu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B0AA-76E4-442C-BF99-9A811DA47C5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3134-0443-4BB0-9E82-11E45B0B9F9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0" y="1628280"/>
            <a:ext cx="91440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clean u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DEALLOCATE(tgt_array, src_array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red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red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xmap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xmap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tgt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idxlist_delet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src_idxlist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! finalis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0" lang="de-DE" sz="1900" spc="-1" strike="noStrike">
                <a:solidFill>
                  <a:srgbClr val="ff0000"/>
                </a:solidFill>
                <a:latin typeface="Courier New"/>
                <a:ea typeface="Tahoma"/>
              </a:rPr>
              <a:t>xt_finalize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(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CALL mpi_finalize(ierror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de-DE" sz="1900" spc="-1" strike="noStrike">
                <a:solidFill>
                  <a:srgbClr val="262626"/>
                </a:solidFill>
                <a:latin typeface="Courier New"/>
                <a:ea typeface="Tahoma"/>
              </a:rPr>
              <a:t>IF (ierror /= mpi_success) STOP 1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928600" y="404280"/>
            <a:ext cx="542916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Finish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A50AF-16E4-4CF6-BADE-92A66AB2EA3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59FA-77D5-483D-A58F-5A53A55FCE3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s (Xt_idxlist) describe subsets of indices within the global index sp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global index space can be any list of ind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re are multiple methods for constructing index list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371F-1609-43E8-96F2-FB8199FD538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F1781-2A86-4831-82C7-79A23D8FFE6D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vec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rbitrary list of indice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62626"/>
                </a:solidFill>
                <a:latin typeface="Tahoma"/>
                <a:ea typeface="Tahoma"/>
              </a:rPr>
              <a:t>[0,3,32,26,44,14,48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trip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ist of stripes: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[start = 0, nstrides = 3, stride = 2], [start = 1, nstrides = 2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stride = 2]] == [0,2,4,1,3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s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N-dimensional block of indices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[start = 0, num_dimension = 2, global_size = [5,5],</a:t>
            </a:r>
            <a:br>
              <a:rPr sz="2000"/>
            </a:b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local_size = [3,3], local_start = [1,1]] == [6,7,8,11,12,13,16,17,18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39CC9-39D1-4420-81F8-59EC60DFAB2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D6FE0-9485-418C-B87B-38F5876FCD2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list coll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Combination of a number of index li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Index modifi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The modifier allows to define a mapping between indic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s create a new index list from an existing index li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Index list: I =[0,1,2,3,4,5]</a:t>
            </a:r>
            <a:br>
              <a:rPr sz="2000"/>
            </a:b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odifier: </a:t>
            </a: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 = [0,2,4,6,8,10]-&gt;[10,8,6,4,2,0]</a:t>
            </a:r>
            <a:br>
              <a:rPr sz="2000"/>
            </a:br>
            <a:r>
              <a:rPr b="0" i="1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M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(I)=[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10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1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8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3,</a:t>
            </a:r>
            <a:r>
              <a:rPr b="0" lang="en-US" sz="2000" spc="-1" strike="noStrike">
                <a:solidFill>
                  <a:srgbClr val="0070c0"/>
                </a:solidFill>
                <a:latin typeface="Tahoma"/>
                <a:ea typeface="Tahoma"/>
              </a:rPr>
              <a:t>6</a:t>
            </a: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,5]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Tahoma"/>
                <a:ea typeface="Tahoma"/>
              </a:rPr>
              <a:t>Empty index li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Tahoma"/>
                <a:ea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Methods to define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E287C-2CAC-4757-A044-816DC200DE8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6F97-4257-457E-82E4-F818B80138A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57200" y="1285560"/>
            <a:ext cx="8229600" cy="28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Exchange maps (Xt_xmap) determine communication partners and what data needs to be exchanged, based on the decom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gorith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very process sends its src and tgt list to all other proces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9320" indent="-4294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Rendezvous algorithm[1] based on a distributed directory of global indices is used to avoid all to all communication patter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4039-4937-4E4D-A48D-EF6D15DE05A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6951-0A51-4EBF-B9B5-BF7CDC801F3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feld 6"/>
          <p:cNvSpPr/>
          <p:nvPr/>
        </p:nvSpPr>
        <p:spPr>
          <a:xfrm>
            <a:off x="468360" y="4653000"/>
            <a:ext cx="820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[1]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. Pinar and B. Hendrickson, </a:t>
            </a:r>
            <a:r>
              <a:rPr b="0" lang="de-DE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Communication Support for Adaptive Computation}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in Proc. SIAM Conf. on Parallel Processing for Scientific Computing, 200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istribution objects (Xt_redist) can be built for every non-null MPI data type (basic types, structs, vectors, 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ternally YAXT will build MPI data type for every required exchange </a:t>
            </a:r>
            <a:r>
              <a:rPr b="0" lang="en-GB" sz="2400" spc="-1" strike="noStrike">
                <a:solidFill>
                  <a:srgbClr val="262626"/>
                </a:solidFill>
                <a:latin typeface="Wingdings"/>
                <a:ea typeface="Wingdings"/>
              </a:rPr>
              <a:t></a:t>
            </a: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 no buffers are required for the exchang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or a combined redistribution object YAXT will also build MPI data types even if the associated input arrays have no fixed offset between each oth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BA32-19DB-4B55-A9E8-30A722100A4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0AE7-82EE-4F8D-B424-937F0958770C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YAXT currently supports blocking redistribution of dat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ADE1-A343-4A7A-9E43-E788CAC47BF9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791A-5809-4E3F-84BB-7A758311FD8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gp_3d_idxvec(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gp_3d_vol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ndex, 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new_gp_3d_idxvec = </a:t>
            </a:r>
            <a:r>
              <a:rPr b="1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5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gp_3d_idxvec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C65C6-5F8C-4720-A449-BDF629C0041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AFCB-5721-4436-B936-CC0930B04D6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hteck 7"/>
          <p:cNvSpPr/>
          <p:nvPr/>
        </p:nvSpPr>
        <p:spPr>
          <a:xfrm>
            <a:off x="6004080" y="1474920"/>
            <a:ext cx="7189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hteck 9"/>
          <p:cNvSpPr/>
          <p:nvPr/>
        </p:nvSpPr>
        <p:spPr>
          <a:xfrm>
            <a:off x="6006960" y="18334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hteck 10"/>
          <p:cNvSpPr/>
          <p:nvPr/>
        </p:nvSpPr>
        <p:spPr>
          <a:xfrm>
            <a:off x="6723000" y="1474920"/>
            <a:ext cx="720720" cy="358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hteck 11"/>
          <p:cNvSpPr/>
          <p:nvPr/>
        </p:nvSpPr>
        <p:spPr>
          <a:xfrm>
            <a:off x="6726240" y="21985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hteck 12"/>
          <p:cNvSpPr/>
          <p:nvPr/>
        </p:nvSpPr>
        <p:spPr>
          <a:xfrm>
            <a:off x="6726240" y="18273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hteck 13"/>
          <p:cNvSpPr/>
          <p:nvPr/>
        </p:nvSpPr>
        <p:spPr>
          <a:xfrm>
            <a:off x="6004080" y="219852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hteck 14"/>
          <p:cNvSpPr/>
          <p:nvPr/>
        </p:nvSpPr>
        <p:spPr>
          <a:xfrm>
            <a:off x="600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hteck 15"/>
          <p:cNvSpPr/>
          <p:nvPr/>
        </p:nvSpPr>
        <p:spPr>
          <a:xfrm>
            <a:off x="6732720" y="2565360"/>
            <a:ext cx="718920" cy="35892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hteck 16"/>
          <p:cNvSpPr/>
          <p:nvPr/>
        </p:nvSpPr>
        <p:spPr>
          <a:xfrm>
            <a:off x="7443720" y="1474920"/>
            <a:ext cx="72072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hteck 17"/>
          <p:cNvSpPr/>
          <p:nvPr/>
        </p:nvSpPr>
        <p:spPr>
          <a:xfrm>
            <a:off x="8164440" y="1474920"/>
            <a:ext cx="719280" cy="3585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hteck 18"/>
          <p:cNvSpPr/>
          <p:nvPr/>
        </p:nvSpPr>
        <p:spPr>
          <a:xfrm>
            <a:off x="7443720" y="18241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hteck 19"/>
          <p:cNvSpPr/>
          <p:nvPr/>
        </p:nvSpPr>
        <p:spPr>
          <a:xfrm>
            <a:off x="8164440" y="181440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hteck 20"/>
          <p:cNvSpPr/>
          <p:nvPr/>
        </p:nvSpPr>
        <p:spPr>
          <a:xfrm>
            <a:off x="7451640" y="220500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hteck 21"/>
          <p:cNvSpPr/>
          <p:nvPr/>
        </p:nvSpPr>
        <p:spPr>
          <a:xfrm>
            <a:off x="7446960" y="2565360"/>
            <a:ext cx="71928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hteck 22"/>
          <p:cNvSpPr/>
          <p:nvPr/>
        </p:nvSpPr>
        <p:spPr>
          <a:xfrm>
            <a:off x="8166240" y="220356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hteck 23"/>
          <p:cNvSpPr/>
          <p:nvPr/>
        </p:nvSpPr>
        <p:spPr>
          <a:xfrm>
            <a:off x="8166240" y="256536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FUNCTION new_ffsl_3d_idxvec(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dx(ffsl_3d_vol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p, index, 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idx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k = ffsl_kstack(kk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ndex = i + nlon * ( (j-1) + nlat * (k-1) 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idx(p) = index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new_ffsl_3d_idxvec = </a:t>
            </a:r>
            <a:r>
              <a:rPr b="1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xt_idxvec_new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(idx, 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300" spc="-1" strike="noStrike">
                <a:solidFill>
                  <a:srgbClr val="262626"/>
                </a:solidFill>
                <a:latin typeface="Courier New"/>
                <a:ea typeface="Tahoma"/>
              </a:rPr>
              <a:t>END FUNCTION new_ffsl_3d_idxvec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decompos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91234-B9F6-4B43-B5FC-D444F4C3C18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EE0F-0878-4211-9388-07390BD90AD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hteck 24"/>
          <p:cNvSpPr/>
          <p:nvPr/>
        </p:nvSpPr>
        <p:spPr>
          <a:xfrm>
            <a:off x="5867280" y="196848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hteck 25"/>
          <p:cNvSpPr/>
          <p:nvPr/>
        </p:nvSpPr>
        <p:spPr>
          <a:xfrm>
            <a:off x="5865840" y="232884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hteck 26"/>
          <p:cNvSpPr/>
          <p:nvPr/>
        </p:nvSpPr>
        <p:spPr>
          <a:xfrm>
            <a:off x="586728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Library on top of MP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nspired by Fortran Prototype </a:t>
            </a:r>
            <a:r>
              <a:rPr b="0" i="1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nitrans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by Mathias Pütz in ScalES-pro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Implemented in C </a:t>
            </a:r>
            <a:r>
              <a:rPr b="0" lang="de-DE" sz="2800" spc="-1" strike="noStrike">
                <a:solidFill>
                  <a:srgbClr val="262626"/>
                </a:solidFill>
                <a:latin typeface="Cambria Math"/>
                <a:ea typeface="Cambria Math"/>
              </a:rPr>
              <a:t>⇒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 type invaria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Fully-featured Fortran interface (requires C-intero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ed by DKRZ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BSD licen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Git and SVN-readonly mirror repositories avail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Uses pkg-config (</a:t>
            </a:r>
            <a:r>
              <a:rPr b="0" lang="de-DE" sz="2400" spc="-1" strike="noStrike">
                <a:solidFill>
                  <a:srgbClr val="262626"/>
                </a:solidFill>
                <a:latin typeface="Courier New"/>
                <a:ea typeface="Tahoma"/>
              </a:rPr>
              <a:t>pkg-config --cflags yaxt</a:t>
            </a:r>
            <a:r>
              <a:rPr b="0" lang="de-DE" sz="2400" spc="-1" strike="noStrike">
                <a:solidFill>
                  <a:srgbClr val="262626"/>
                </a:solidFill>
                <a:latin typeface="Tahoma"/>
                <a:ea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404040"/>
                </a:solidFill>
                <a:latin typeface="Tahoma"/>
                <a:ea typeface="Tahoma"/>
              </a:rPr>
              <a:t>Some rema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B9F5F-80FE-47D8-BF3E-4BA3642BC33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63A5-5218-485D-A340-C84AC361341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gp_3d_off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proma, nlev, ngpblks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p, r, ib, ia, index, 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b = 1, ngpblks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a = 1, nproma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a,k,ib) = p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k = 1, nlev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0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r = 1, 2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j = glats(r), glat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DO i = glons(r), glone(r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ia +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F (ia &gt; nproma) THEN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b = ib +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ia = 1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I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a,k,ib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i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j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r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DO !k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8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gp_3d_off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gp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044F-01FB-42A7-9A20-DE33AFCB377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217C-3C5B-4145-B6AA-9E8B9BDE2E45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ck 7"/>
          <p:cNvSpPr/>
          <p:nvPr/>
        </p:nvSpPr>
        <p:spPr>
          <a:xfrm>
            <a:off x="601200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hteck 9"/>
          <p:cNvSpPr/>
          <p:nvPr/>
        </p:nvSpPr>
        <p:spPr>
          <a:xfrm>
            <a:off x="601200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hteck 10"/>
          <p:cNvSpPr/>
          <p:nvPr/>
        </p:nvSpPr>
        <p:spPr>
          <a:xfrm>
            <a:off x="6732720" y="1268280"/>
            <a:ext cx="7189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hteck 11"/>
          <p:cNvSpPr/>
          <p:nvPr/>
        </p:nvSpPr>
        <p:spPr>
          <a:xfrm>
            <a:off x="6732720" y="1982880"/>
            <a:ext cx="7189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hteck 12"/>
          <p:cNvSpPr/>
          <p:nvPr/>
        </p:nvSpPr>
        <p:spPr>
          <a:xfrm>
            <a:off x="6732720" y="1619280"/>
            <a:ext cx="7189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hteck 13"/>
          <p:cNvSpPr/>
          <p:nvPr/>
        </p:nvSpPr>
        <p:spPr>
          <a:xfrm>
            <a:off x="6012000" y="19828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hteck 14"/>
          <p:cNvSpPr/>
          <p:nvPr/>
        </p:nvSpPr>
        <p:spPr>
          <a:xfrm>
            <a:off x="601200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hteck 15"/>
          <p:cNvSpPr/>
          <p:nvPr/>
        </p:nvSpPr>
        <p:spPr>
          <a:xfrm>
            <a:off x="6732720" y="2347920"/>
            <a:ext cx="72072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hteck 16"/>
          <p:cNvSpPr/>
          <p:nvPr/>
        </p:nvSpPr>
        <p:spPr>
          <a:xfrm>
            <a:off x="745164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17"/>
          <p:cNvSpPr/>
          <p:nvPr/>
        </p:nvSpPr>
        <p:spPr>
          <a:xfrm>
            <a:off x="8172360" y="1268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hteck 18"/>
          <p:cNvSpPr/>
          <p:nvPr/>
        </p:nvSpPr>
        <p:spPr>
          <a:xfrm>
            <a:off x="7451640" y="1619280"/>
            <a:ext cx="72072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hteck 19"/>
          <p:cNvSpPr/>
          <p:nvPr/>
        </p:nvSpPr>
        <p:spPr>
          <a:xfrm>
            <a:off x="8172360" y="161928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hteck 20"/>
          <p:cNvSpPr/>
          <p:nvPr/>
        </p:nvSpPr>
        <p:spPr>
          <a:xfrm>
            <a:off x="745164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hteck 21"/>
          <p:cNvSpPr/>
          <p:nvPr/>
        </p:nvSpPr>
        <p:spPr>
          <a:xfrm>
            <a:off x="7451640" y="2347920"/>
            <a:ext cx="72072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hteck 22"/>
          <p:cNvSpPr/>
          <p:nvPr/>
        </p:nvSpPr>
        <p:spPr>
          <a:xfrm>
            <a:off x="8172360" y="198288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hteck 23"/>
          <p:cNvSpPr/>
          <p:nvPr/>
        </p:nvSpPr>
        <p:spPr>
          <a:xfrm>
            <a:off x="8172360" y="2347920"/>
            <a:ext cx="71928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hteck 24"/>
          <p:cNvSpPr/>
          <p:nvPr/>
        </p:nvSpPr>
        <p:spPr>
          <a:xfrm>
            <a:off x="3552840" y="2311560"/>
            <a:ext cx="1944720" cy="18720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hteck 26"/>
          <p:cNvSpPr/>
          <p:nvPr/>
        </p:nvSpPr>
        <p:spPr>
          <a:xfrm>
            <a:off x="3552840" y="2519280"/>
            <a:ext cx="1944720" cy="1875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feld 6"/>
          <p:cNvSpPr/>
          <p:nvPr/>
        </p:nvSpPr>
        <p:spPr>
          <a:xfrm>
            <a:off x="6536520" y="285588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index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feld 27"/>
          <p:cNvSpPr/>
          <p:nvPr/>
        </p:nvSpPr>
        <p:spPr>
          <a:xfrm>
            <a:off x="3792960" y="286380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off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Gerade Verbindung mit Pfeil 28"/>
          <p:cNvCxnSpPr/>
          <p:nvPr/>
        </p:nvCxnSpPr>
        <p:spPr>
          <a:xfrm flipH="1">
            <a:off x="3552120" y="1268280"/>
            <a:ext cx="3188520" cy="104364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32" name="Gerade Verbindung mit Pfeil 31"/>
          <p:cNvCxnSpPr/>
          <p:nvPr/>
        </p:nvCxnSpPr>
        <p:spPr>
          <a:xfrm flipH="1">
            <a:off x="4858920" y="2358720"/>
            <a:ext cx="1882080" cy="130680"/>
          </a:xfrm>
          <a:prstGeom prst="straightConnector1">
            <a:avLst/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33" name="Rechteck 38"/>
          <p:cNvSpPr/>
          <p:nvPr/>
        </p:nvSpPr>
        <p:spPr>
          <a:xfrm>
            <a:off x="5054760" y="2617920"/>
            <a:ext cx="433080" cy="8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feld 41"/>
          <p:cNvSpPr/>
          <p:nvPr/>
        </p:nvSpPr>
        <p:spPr>
          <a:xfrm>
            <a:off x="3492360" y="3860640"/>
            <a:ext cx="525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 to offset rel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-th local index corresponds to p-th local offse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,j,k)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ia,k,i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SUBROUTINE set_ffsl_3d_off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INTENT(out) :: off(: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coords_off(nlon, ffsl_nlat, ffsl_nlev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NTEGER :: i, j, k, kk, ic, jc, kc, p, index, 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n = SIZE(off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c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c = ffsl_nlat, 1, -1 ! change in j-orientati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c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coords_off(ic, jc, kc) = p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kk = 1, ffsl_nlev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kc = kk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j = ffsl_gp_lat1, ffsl_gp_lat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jc = j-ffsl_gp_lat1+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DO i = 1, nl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ic = i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p = p + 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off(p) = coords_off(ic, jc, kc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DO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  </a:t>
            </a:r>
            <a:r>
              <a:rPr b="0" lang="en-GB" sz="1000" spc="-1" strike="noStrike">
                <a:solidFill>
                  <a:srgbClr val="262626"/>
                </a:solidFill>
                <a:latin typeface="Courier New"/>
                <a:ea typeface="Tahoma"/>
              </a:rPr>
              <a:t>END SUBROUTINE set_ffsl_3d_off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ffsl-offs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04C0B-BE2E-4219-8C19-3844A6D3BD7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2734-EF51-4312-AA16-302DB038BBE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hteck 7"/>
          <p:cNvSpPr/>
          <p:nvPr/>
        </p:nvSpPr>
        <p:spPr>
          <a:xfrm>
            <a:off x="5865840" y="1608120"/>
            <a:ext cx="28796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hteck 24"/>
          <p:cNvSpPr/>
          <p:nvPr/>
        </p:nvSpPr>
        <p:spPr>
          <a:xfrm>
            <a:off x="5865840" y="1971720"/>
            <a:ext cx="2881440" cy="36036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hteck 25"/>
          <p:cNvSpPr/>
          <p:nvPr/>
        </p:nvSpPr>
        <p:spPr>
          <a:xfrm>
            <a:off x="5865840" y="2333520"/>
            <a:ext cx="2879640" cy="35892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hteck 26"/>
          <p:cNvSpPr/>
          <p:nvPr/>
        </p:nvSpPr>
        <p:spPr>
          <a:xfrm>
            <a:off x="5865840" y="2695680"/>
            <a:ext cx="2881440" cy="360360"/>
          </a:xfrm>
          <a:prstGeom prst="rect">
            <a:avLst/>
          </a:prstGeom>
          <a:solidFill>
            <a:srgbClr val="e6e0e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Gerade Verbindung 8"/>
          <p:cNvSpPr/>
          <p:nvPr/>
        </p:nvSpPr>
        <p:spPr>
          <a:xfrm flipV="1">
            <a:off x="5877000" y="130500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Gerade Verbindung 28"/>
          <p:cNvSpPr/>
          <p:nvPr/>
        </p:nvSpPr>
        <p:spPr>
          <a:xfrm flipV="1">
            <a:off x="8739360" y="1339920"/>
            <a:ext cx="360360" cy="2887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Gerade Verbindung 29"/>
          <p:cNvSpPr/>
          <p:nvPr/>
        </p:nvSpPr>
        <p:spPr>
          <a:xfrm flipV="1">
            <a:off x="8748720" y="2754360"/>
            <a:ext cx="360360" cy="2872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fin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USE yax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idxlist) ::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, ffsl_3d_idxl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xmap) :: 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ALLOCATABLE ::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(:), ffsl_3d_off(: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TYPE(xt_redist), SAVE :: 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Decomposition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gp_3d_idxvec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new_ffsl_3d_idxstripes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Init xmap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xmap_all2all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gp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1f497d"/>
                </a:solidFill>
                <a:latin typeface="Courier New"/>
                <a:ea typeface="Tahoma"/>
              </a:rPr>
              <a:t>ffsl_3d_idxl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 model_comm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Offsets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gp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set_ffsl_3d_off(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Red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 =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p2p_off_new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00b050"/>
                </a:solidFill>
                <a:latin typeface="Courier New"/>
                <a:ea typeface="Tahoma"/>
              </a:rPr>
              <a:t>gp2ffsl_3d_xmap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gp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</a:t>
            </a:r>
            <a:r>
              <a:rPr b="1" lang="en-GB" sz="1100" spc="-1" strike="noStrike">
                <a:solidFill>
                  <a:srgbClr val="7030a0"/>
                </a:solidFill>
                <a:latin typeface="Courier New"/>
                <a:ea typeface="Tahoma"/>
              </a:rPr>
              <a:t>ffsl_3d_off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p_real_dp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! Usage in the model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CALL </a:t>
            </a:r>
            <a:r>
              <a:rPr b="1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xt_redist_s_exchange1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(</a:t>
            </a:r>
            <a:r>
              <a:rPr b="1" lang="en-GB" sz="1100" spc="-1" strike="noStrike">
                <a:solidFill>
                  <a:srgbClr val="c00000"/>
                </a:solidFill>
                <a:latin typeface="Courier New"/>
                <a:ea typeface="Tahoma"/>
              </a:rPr>
              <a:t>gp2ffsl_3d_redist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gp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, C_LOC(</a:t>
            </a:r>
            <a:r>
              <a:rPr b="1" lang="en-GB" sz="1100" spc="-1" strike="noStrike">
                <a:solidFill>
                  <a:srgbClr val="000000"/>
                </a:solidFill>
                <a:latin typeface="Courier New"/>
                <a:ea typeface="Tahoma"/>
              </a:rPr>
              <a:t>ffsl_data</a:t>
            </a:r>
            <a:r>
              <a:rPr b="0" lang="en-GB" sz="1100" spc="-1" strike="noStrike">
                <a:solidFill>
                  <a:srgbClr val="262626"/>
                </a:solidFill>
                <a:latin typeface="Courier New"/>
                <a:ea typeface="Tahoma"/>
              </a:rPr>
              <a:t>)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ECHAM(gp </a:t>
            </a:r>
            <a:r>
              <a:rPr b="0" lang="en-GB" sz="2800" spc="-1" strike="noStrike">
                <a:solidFill>
                  <a:srgbClr val="404040"/>
                </a:solidFill>
                <a:latin typeface="Wingdings"/>
                <a:ea typeface="Wingdings"/>
              </a:rPr>
              <a:t></a:t>
            </a: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 ffsl): us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0C18-8CC1-4546-978A-9973685994B3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958B-D17F-4454-A46B-1641B62B106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ifferent exchange kinds, each of them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behaves differently at global domain boundari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p_exch_kind      =  1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plus_exch_kind  =  2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_exch_kind      =  3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uu_exch_kind     =  4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plus_exch_kind  =  5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_exch_kind      =  6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v_exch_kind     =  7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vf_exch_kind     =  8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_exch_kind      =  9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262626"/>
                </a:solidFill>
                <a:latin typeface="Courier New"/>
                <a:ea typeface="Tahoma"/>
              </a:rPr>
              <a:t>INTEGER, PARAMETER :: sminus_exch_kind = 1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Usage of yaxt-modifiers to simplify definitions of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    </a:t>
            </a:r>
            <a:r>
              <a:rPr b="0" lang="en-GB" sz="1700" spc="-1" strike="noStrike">
                <a:solidFill>
                  <a:srgbClr val="ff0000"/>
                </a:solidFill>
                <a:latin typeface="Courier New"/>
                <a:ea typeface="Tahoma"/>
              </a:rPr>
              <a:t>! Decomposition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9640" y="428760"/>
            <a:ext cx="781848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Real world example:</a:t>
            </a:r>
            <a:br>
              <a:rPr sz="2800"/>
            </a:br>
            <a:r>
              <a:rPr b="0" lang="en-GB" sz="2800" spc="-1" strike="noStrike">
                <a:solidFill>
                  <a:srgbClr val="404040"/>
                </a:solidFill>
                <a:latin typeface="Tahoma"/>
                <a:ea typeface="Tahoma"/>
              </a:rPr>
              <a:t>MPIOM bounds-exchange with modifi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47232-9D3A-4B35-A8B0-8EF303B737B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68DB-0F9E-4E69-B84D-215A6D6F3681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1547640" y="1557360"/>
          <a:ext cx="260208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440"/>
                <a:gridCol w="434880"/>
                <a:gridCol w="433440"/>
                <a:gridCol w="43344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ba5ff"/>
                          </a:solidFill>
                          <a:latin typeface="Calibri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Simplified incomplete bounds-exchange examp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9BE5-6CF1-44BD-A029-71F2E88BBF8A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11D18-5E93-421E-906D-A69C6E8B130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5148360" y="1557360"/>
          <a:ext cx="2601720" cy="1482840"/>
        </p:xfrm>
        <a:graphic>
          <a:graphicData uri="http://schemas.openxmlformats.org/drawingml/2006/table">
            <a:tbl>
              <a:tblPr/>
              <a:tblGrid>
                <a:gridCol w="433440"/>
                <a:gridCol w="433080"/>
                <a:gridCol w="435240"/>
                <a:gridCol w="433440"/>
                <a:gridCol w="433080"/>
                <a:gridCol w="433440"/>
              </a:tblGrid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363" name="Textfeld 8"/>
          <p:cNvSpPr/>
          <p:nvPr/>
        </p:nvSpPr>
        <p:spPr>
          <a:xfrm>
            <a:off x="1279080" y="1197000"/>
            <a:ext cx="312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source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feld 9"/>
          <p:cNvSpPr/>
          <p:nvPr/>
        </p:nvSpPr>
        <p:spPr>
          <a:xfrm>
            <a:off x="4951080" y="1197000"/>
            <a:ext cx="30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obal target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feld 10"/>
          <p:cNvSpPr/>
          <p:nvPr/>
        </p:nvSpPr>
        <p:spPr>
          <a:xfrm>
            <a:off x="868320" y="3500280"/>
            <a:ext cx="684972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r 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1,7,13,19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5,11,17,23]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[6,12,18,24]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[2,8,14,2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(I) = 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I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feld 11"/>
          <p:cNvSpPr/>
          <p:nvPr/>
        </p:nvSpPr>
        <p:spPr>
          <a:xfrm>
            <a:off x="852480" y="4581360"/>
            <a:ext cx="4032000" cy="12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source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[15,16,17,18,21,22,23,2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target indices (including halos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M(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= [15,16,17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21,22,23,</a:t>
            </a:r>
            <a:r>
              <a:rPr b="0" lang="en-US" sz="1800" spc="-1" strike="noStrike">
                <a:solidFill>
                  <a:srgbClr val="c00000"/>
                </a:solidFill>
                <a:latin typeface="Arial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feld 12"/>
          <p:cNvSpPr/>
          <p:nvPr/>
        </p:nvSpPr>
        <p:spPr>
          <a:xfrm>
            <a:off x="5219640" y="4508640"/>
            <a:ext cx="302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ifier can be applied to any index sub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t included her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change of inner ha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72A94-D51E-426C-A8A4-3326EB7F01E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E0C1A-CB60-44EA-8813-6A962FEC7FD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Completing the bounds-exchange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Freihandform 9"/>
          <p:cNvSpPr/>
          <p:nvPr/>
        </p:nvSpPr>
        <p:spPr>
          <a:xfrm>
            <a:off x="198360" y="1554120"/>
            <a:ext cx="4722840" cy="1463760"/>
          </a:xfrm>
          <a:custGeom>
            <a:avLst/>
            <a:gdLst>
              <a:gd name="textAreaLeft" fmla="*/ 0 w 4722840"/>
              <a:gd name="textAreaRight" fmla="*/ 4723200 w 4722840"/>
              <a:gd name="textAreaTop" fmla="*/ 0 h 1463760"/>
              <a:gd name="textAreaBottom" fmla="*/ 1464120 h 146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ihandform 10"/>
          <p:cNvSpPr/>
          <p:nvPr/>
        </p:nvSpPr>
        <p:spPr>
          <a:xfrm>
            <a:off x="393840" y="1800360"/>
            <a:ext cx="4297320" cy="1279440"/>
          </a:xfrm>
          <a:custGeom>
            <a:avLst/>
            <a:gdLst>
              <a:gd name="textAreaLeft" fmla="*/ 0 w 4297320"/>
              <a:gd name="textAreaRight" fmla="*/ 4297680 w 4297320"/>
              <a:gd name="textAreaTop" fmla="*/ 0 h 1279440"/>
              <a:gd name="textAreaBottom" fmla="*/ 1279800 h 1279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ihandform 11"/>
          <p:cNvSpPr/>
          <p:nvPr/>
        </p:nvSpPr>
        <p:spPr>
          <a:xfrm>
            <a:off x="19836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ihandform 12"/>
          <p:cNvSpPr/>
          <p:nvPr/>
        </p:nvSpPr>
        <p:spPr>
          <a:xfrm>
            <a:off x="470844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reihandform 13"/>
          <p:cNvSpPr/>
          <p:nvPr/>
        </p:nvSpPr>
        <p:spPr>
          <a:xfrm>
            <a:off x="411120" y="1736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reihandform 14"/>
          <p:cNvSpPr/>
          <p:nvPr/>
        </p:nvSpPr>
        <p:spPr>
          <a:xfrm>
            <a:off x="4464000" y="1736640"/>
            <a:ext cx="244440" cy="1281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ihandform 15"/>
          <p:cNvSpPr/>
          <p:nvPr/>
        </p:nvSpPr>
        <p:spPr>
          <a:xfrm>
            <a:off x="411120" y="1736640"/>
            <a:ext cx="212760" cy="1281240"/>
          </a:xfrm>
          <a:custGeom>
            <a:avLst/>
            <a:gdLst>
              <a:gd name="textAreaLeft" fmla="*/ 0 w 212760"/>
              <a:gd name="textAreaRight" fmla="*/ 213120 w 212760"/>
              <a:gd name="textAreaTop" fmla="*/ 0 h 1281240"/>
              <a:gd name="textAreaBottom" fmla="*/ 1281240 h 12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ihandform 16"/>
          <p:cNvSpPr/>
          <p:nvPr/>
        </p:nvSpPr>
        <p:spPr>
          <a:xfrm>
            <a:off x="1874880" y="1736640"/>
            <a:ext cx="2833560" cy="457200"/>
          </a:xfrm>
          <a:custGeom>
            <a:avLst/>
            <a:gdLst>
              <a:gd name="textAreaLeft" fmla="*/ 0 w 2833560"/>
              <a:gd name="textAreaRight" fmla="*/ 2833920 w 28335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reihandform 17"/>
          <p:cNvSpPr/>
          <p:nvPr/>
        </p:nvSpPr>
        <p:spPr>
          <a:xfrm>
            <a:off x="411120" y="21938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Freihandform 18"/>
          <p:cNvSpPr/>
          <p:nvPr/>
        </p:nvSpPr>
        <p:spPr>
          <a:xfrm>
            <a:off x="3246480" y="2193840"/>
            <a:ext cx="1461960" cy="824040"/>
          </a:xfrm>
          <a:custGeom>
            <a:avLst/>
            <a:gdLst>
              <a:gd name="textAreaLeft" fmla="*/ 0 w 1461960"/>
              <a:gd name="textAreaRight" fmla="*/ 1462320 w 14619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noFill/>
          <a:ln w="36720">
            <a:solidFill>
              <a:srgbClr val="000000">
                <a:alpha val="2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ihandform 19"/>
          <p:cNvSpPr/>
          <p:nvPr/>
        </p:nvSpPr>
        <p:spPr>
          <a:xfrm>
            <a:off x="166680" y="3840120"/>
            <a:ext cx="1828800" cy="8240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ihandform 20"/>
          <p:cNvSpPr/>
          <p:nvPr/>
        </p:nvSpPr>
        <p:spPr>
          <a:xfrm>
            <a:off x="3459240" y="4754520"/>
            <a:ext cx="1828800" cy="100656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ihandform 21"/>
          <p:cNvSpPr/>
          <p:nvPr/>
        </p:nvSpPr>
        <p:spPr>
          <a:xfrm>
            <a:off x="166680" y="4754520"/>
            <a:ext cx="3200400" cy="10065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ihandform 22"/>
          <p:cNvSpPr/>
          <p:nvPr/>
        </p:nvSpPr>
        <p:spPr>
          <a:xfrm>
            <a:off x="2087640" y="3840120"/>
            <a:ext cx="3200400" cy="82404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ihandform 23"/>
          <p:cNvSpPr/>
          <p:nvPr/>
        </p:nvSpPr>
        <p:spPr>
          <a:xfrm>
            <a:off x="16668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ihandform 24"/>
          <p:cNvSpPr/>
          <p:nvPr/>
        </p:nvSpPr>
        <p:spPr>
          <a:xfrm>
            <a:off x="349200" y="4022640"/>
            <a:ext cx="1463760" cy="45720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reihandform 25"/>
          <p:cNvSpPr/>
          <p:nvPr/>
        </p:nvSpPr>
        <p:spPr>
          <a:xfrm>
            <a:off x="349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reihandform 26"/>
          <p:cNvSpPr/>
          <p:nvPr/>
        </p:nvSpPr>
        <p:spPr>
          <a:xfrm>
            <a:off x="364176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Freihandform 27"/>
          <p:cNvSpPr/>
          <p:nvPr/>
        </p:nvSpPr>
        <p:spPr>
          <a:xfrm>
            <a:off x="2270160" y="4022640"/>
            <a:ext cx="2835360" cy="45720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reihandform 28"/>
          <p:cNvSpPr/>
          <p:nvPr/>
        </p:nvSpPr>
        <p:spPr>
          <a:xfrm>
            <a:off x="16668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ihandform 29"/>
          <p:cNvSpPr/>
          <p:nvPr/>
        </p:nvSpPr>
        <p:spPr>
          <a:xfrm>
            <a:off x="349200" y="4937040"/>
            <a:ext cx="2835360" cy="824040"/>
          </a:xfrm>
          <a:custGeom>
            <a:avLst/>
            <a:gdLst>
              <a:gd name="textAreaLeft" fmla="*/ 0 w 2835360"/>
              <a:gd name="textAreaRight" fmla="*/ 2835360 w 28353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reihandform 30"/>
          <p:cNvSpPr/>
          <p:nvPr/>
        </p:nvSpPr>
        <p:spPr>
          <a:xfrm>
            <a:off x="34592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ihandform 31"/>
          <p:cNvSpPr/>
          <p:nvPr/>
        </p:nvSpPr>
        <p:spPr>
          <a:xfrm>
            <a:off x="3641760" y="4937040"/>
            <a:ext cx="1463760" cy="82404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ccccd"/>
          </a:solidFill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63000" bIns="63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ihandform 32"/>
          <p:cNvSpPr/>
          <p:nvPr/>
        </p:nvSpPr>
        <p:spPr>
          <a:xfrm>
            <a:off x="16304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ihandform 33"/>
          <p:cNvSpPr/>
          <p:nvPr/>
        </p:nvSpPr>
        <p:spPr>
          <a:xfrm>
            <a:off x="3641760" y="4297320"/>
            <a:ext cx="1433520" cy="18252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ihandform 34"/>
          <p:cNvSpPr/>
          <p:nvPr/>
        </p:nvSpPr>
        <p:spPr>
          <a:xfrm>
            <a:off x="22701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ihandform 35"/>
          <p:cNvSpPr/>
          <p:nvPr/>
        </p:nvSpPr>
        <p:spPr>
          <a:xfrm>
            <a:off x="4921200" y="4022640"/>
            <a:ext cx="184320" cy="457200"/>
          </a:xfrm>
          <a:custGeom>
            <a:avLst/>
            <a:gdLst>
              <a:gd name="textAreaLeft" fmla="*/ 0 w 184320"/>
              <a:gd name="textAreaRight" fmla="*/ 184680 w 1843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Freihandform 36"/>
          <p:cNvSpPr/>
          <p:nvPr/>
        </p:nvSpPr>
        <p:spPr>
          <a:xfrm>
            <a:off x="349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3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reihandform 37"/>
          <p:cNvSpPr/>
          <p:nvPr/>
        </p:nvSpPr>
        <p:spPr>
          <a:xfrm>
            <a:off x="300204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reihandform 38"/>
          <p:cNvSpPr/>
          <p:nvPr/>
        </p:nvSpPr>
        <p:spPr>
          <a:xfrm>
            <a:off x="349200" y="4937040"/>
            <a:ext cx="1494000" cy="1843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reihandform 39"/>
          <p:cNvSpPr/>
          <p:nvPr/>
        </p:nvSpPr>
        <p:spPr>
          <a:xfrm>
            <a:off x="349200" y="42973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ihandform 40"/>
          <p:cNvSpPr/>
          <p:nvPr/>
        </p:nvSpPr>
        <p:spPr>
          <a:xfrm>
            <a:off x="3641760" y="49370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reihandform 41"/>
          <p:cNvSpPr/>
          <p:nvPr/>
        </p:nvSpPr>
        <p:spPr>
          <a:xfrm>
            <a:off x="36417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Freihandform 42"/>
          <p:cNvSpPr/>
          <p:nvPr/>
        </p:nvSpPr>
        <p:spPr>
          <a:xfrm>
            <a:off x="4921200" y="4937040"/>
            <a:ext cx="184320" cy="824040"/>
          </a:xfrm>
          <a:custGeom>
            <a:avLst/>
            <a:gdLst>
              <a:gd name="textAreaLeft" fmla="*/ 0 w 184320"/>
              <a:gd name="textAreaRight" fmla="*/ 184680 w 1843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reihandform 43"/>
          <p:cNvSpPr/>
          <p:nvPr/>
        </p:nvSpPr>
        <p:spPr>
          <a:xfrm>
            <a:off x="181296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ihandform 44"/>
          <p:cNvSpPr/>
          <p:nvPr/>
        </p:nvSpPr>
        <p:spPr>
          <a:xfrm>
            <a:off x="318456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ihandform 45"/>
          <p:cNvSpPr/>
          <p:nvPr/>
        </p:nvSpPr>
        <p:spPr>
          <a:xfrm>
            <a:off x="5105520" y="4937040"/>
            <a:ext cx="182520" cy="824040"/>
          </a:xfrm>
          <a:custGeom>
            <a:avLst/>
            <a:gdLst>
              <a:gd name="textAreaLeft" fmla="*/ 0 w 182520"/>
              <a:gd name="textAreaRight" fmla="*/ 182880 w 182520"/>
              <a:gd name="textAreaTop" fmla="*/ 0 h 824040"/>
              <a:gd name="textAreaBottom" fmla="*/ 824400 h 82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ihandform 46"/>
          <p:cNvSpPr/>
          <p:nvPr/>
        </p:nvSpPr>
        <p:spPr>
          <a:xfrm>
            <a:off x="349200" y="4754520"/>
            <a:ext cx="1494000" cy="182520"/>
          </a:xfrm>
          <a:custGeom>
            <a:avLst/>
            <a:gdLst>
              <a:gd name="textAreaLeft" fmla="*/ 0 w 1494000"/>
              <a:gd name="textAreaRight" fmla="*/ 1494360 w 14940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ihandform 47"/>
          <p:cNvSpPr/>
          <p:nvPr/>
        </p:nvSpPr>
        <p:spPr>
          <a:xfrm>
            <a:off x="3641760" y="4754520"/>
            <a:ext cx="1463760" cy="1825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ihandform 48"/>
          <p:cNvSpPr/>
          <p:nvPr/>
        </p:nvSpPr>
        <p:spPr>
          <a:xfrm>
            <a:off x="349200" y="4479840"/>
            <a:ext cx="1463760" cy="184320"/>
          </a:xfrm>
          <a:custGeom>
            <a:avLst/>
            <a:gdLst>
              <a:gd name="textAreaLeft" fmla="*/ 0 w 1463760"/>
              <a:gd name="textAreaRight" fmla="*/ 1464120 w 14637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ihandform 49"/>
          <p:cNvSpPr/>
          <p:nvPr/>
        </p:nvSpPr>
        <p:spPr>
          <a:xfrm>
            <a:off x="16668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ihandform 50"/>
          <p:cNvSpPr/>
          <p:nvPr/>
        </p:nvSpPr>
        <p:spPr>
          <a:xfrm>
            <a:off x="181296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ihandform 51"/>
          <p:cNvSpPr/>
          <p:nvPr/>
        </p:nvSpPr>
        <p:spPr>
          <a:xfrm>
            <a:off x="16668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ihandform 52"/>
          <p:cNvSpPr/>
          <p:nvPr/>
        </p:nvSpPr>
        <p:spPr>
          <a:xfrm>
            <a:off x="1843200" y="4754520"/>
            <a:ext cx="1341360" cy="1825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ihandform 53"/>
          <p:cNvSpPr/>
          <p:nvPr/>
        </p:nvSpPr>
        <p:spPr>
          <a:xfrm>
            <a:off x="318456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ihandform 54"/>
          <p:cNvSpPr/>
          <p:nvPr/>
        </p:nvSpPr>
        <p:spPr>
          <a:xfrm>
            <a:off x="345924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ihandform 55"/>
          <p:cNvSpPr/>
          <p:nvPr/>
        </p:nvSpPr>
        <p:spPr>
          <a:xfrm>
            <a:off x="5105520" y="4754520"/>
            <a:ext cx="182520" cy="1825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ihandform 56"/>
          <p:cNvSpPr/>
          <p:nvPr/>
        </p:nvSpPr>
        <p:spPr>
          <a:xfrm>
            <a:off x="2270160" y="4479840"/>
            <a:ext cx="1371600" cy="1843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ihandform 57"/>
          <p:cNvSpPr/>
          <p:nvPr/>
        </p:nvSpPr>
        <p:spPr>
          <a:xfrm>
            <a:off x="208764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ihandform 58"/>
          <p:cNvSpPr/>
          <p:nvPr/>
        </p:nvSpPr>
        <p:spPr>
          <a:xfrm>
            <a:off x="208764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ihandform 59"/>
          <p:cNvSpPr/>
          <p:nvPr/>
        </p:nvSpPr>
        <p:spPr>
          <a:xfrm>
            <a:off x="5105520" y="4022640"/>
            <a:ext cx="182520" cy="457200"/>
          </a:xfrm>
          <a:custGeom>
            <a:avLst/>
            <a:gdLst>
              <a:gd name="textAreaLeft" fmla="*/ 0 w 182520"/>
              <a:gd name="textAreaRight" fmla="*/ 182880 w 18252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7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ihandform 60"/>
          <p:cNvSpPr/>
          <p:nvPr/>
        </p:nvSpPr>
        <p:spPr>
          <a:xfrm>
            <a:off x="5105520" y="4479840"/>
            <a:ext cx="182520" cy="184320"/>
          </a:xfrm>
          <a:custGeom>
            <a:avLst/>
            <a:gdLst>
              <a:gd name="textAreaLeft" fmla="*/ 0 w 182520"/>
              <a:gd name="textAreaRight" fmla="*/ 182880 w 1825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c5000b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ihandform 61"/>
          <p:cNvSpPr/>
          <p:nvPr/>
        </p:nvSpPr>
        <p:spPr>
          <a:xfrm>
            <a:off x="1843200" y="4937040"/>
            <a:ext cx="1341360" cy="184320"/>
          </a:xfrm>
          <a:custGeom>
            <a:avLst/>
            <a:gdLst>
              <a:gd name="textAreaLeft" fmla="*/ 0 w 1341360"/>
              <a:gd name="textAreaRight" fmla="*/ 1341720 w 134136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ihandform 62"/>
          <p:cNvSpPr/>
          <p:nvPr/>
        </p:nvSpPr>
        <p:spPr>
          <a:xfrm>
            <a:off x="2270160" y="4297320"/>
            <a:ext cx="1371600" cy="182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82520"/>
              <a:gd name="textAreaBottom" fmla="*/ 18288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lnTo>
                  <a:pt x="0" y="0"/>
                </a:lnTo>
                <a:close/>
              </a:path>
            </a:pathLst>
          </a:custGeom>
          <a:solidFill>
            <a:srgbClr val="0084d1">
              <a:alpha val="20000"/>
            </a:srgbClr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feld 63"/>
          <p:cNvSpPr/>
          <p:nvPr/>
        </p:nvSpPr>
        <p:spPr>
          <a:xfrm>
            <a:off x="5472000" y="1273320"/>
            <a:ext cx="36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Global 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- described by mod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feld 64"/>
          <p:cNvSpPr/>
          <p:nvPr/>
        </p:nvSpPr>
        <p:spPr>
          <a:xfrm>
            <a:off x="5472000" y="367020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sub-domain hal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Depend on stencil ex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l border definition done by user-c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feld 65"/>
          <p:cNvSpPr/>
          <p:nvPr/>
        </p:nvSpPr>
        <p:spPr>
          <a:xfrm>
            <a:off x="214200" y="2995560"/>
            <a:ext cx="437220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M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: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</a:t>
            </a:r>
            <a:r>
              <a:rPr b="0" lang="de-DE" sz="1800" spc="-1" strike="noStrike">
                <a:solidFill>
                  <a:srgbClr val="0070c0"/>
                </a:solidFill>
                <a:latin typeface="Tahoma"/>
                <a:ea typeface="Tahoma"/>
              </a:rPr>
              <a:t>Source</a:t>
            </a:r>
            <a:r>
              <a:rPr b="0" lang="de-DE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i       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Tahoma"/>
                <a:ea typeface="Tahoma"/>
              </a:rPr>
              <a:t>   </a:t>
            </a:r>
            <a:r>
              <a:rPr b="0" lang="de-DE" sz="1800" spc="-1" strike="noStrike">
                <a:solidFill>
                  <a:srgbClr val="c00000"/>
                </a:solidFill>
                <a:latin typeface="Tahoma"/>
                <a:ea typeface="Tahoma"/>
              </a:rPr>
              <a:t>          Target</a:t>
            </a:r>
            <a:r>
              <a:rPr b="0" lang="de-DE" sz="1800" spc="-1" strike="noStrike" baseline="-25000">
                <a:solidFill>
                  <a:srgbClr val="c00000"/>
                </a:solidFill>
                <a:latin typeface="Tahoma"/>
                <a:ea typeface="Tahoma"/>
              </a:rPr>
              <a:t>i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Nach unten gekrümmter Pfeil 66"/>
          <p:cNvSpPr/>
          <p:nvPr/>
        </p:nvSpPr>
        <p:spPr>
          <a:xfrm>
            <a:off x="441360" y="1449360"/>
            <a:ext cx="4572000" cy="63828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320 h 638280"/>
              <a:gd name="textAreaBottom" fmla="*/ 552960 h 638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5" hR="21600" stAng="10800000" swAng="5400000"/>
                <a:lnTo>
                  <a:pt x="10989" y="0"/>
                </a:lnTo>
                <a:arcTo wR="10235" hR="21600" stAng="-5400000" swAng="3684760"/>
                <a:lnTo>
                  <a:pt x="21275" y="16200"/>
                </a:lnTo>
                <a:lnTo>
                  <a:pt x="20846" y="21600"/>
                </a:lnTo>
                <a:lnTo>
                  <a:pt x="19767" y="16200"/>
                </a:lnTo>
                <a:lnTo>
                  <a:pt x="20144" y="16200"/>
                </a:lnTo>
                <a:arcTo wR="10235" hR="21600" stAng="-1715240" swAng="-3624724"/>
                <a:lnTo>
                  <a:pt x="10612" y="15"/>
                </a:lnTo>
                <a:arcTo wR="10235" hR="21600" stAng="-5460036" swAng="-5339964"/>
                <a:close/>
              </a:path>
              <a:path fill="darkenLess" w="21600" h="21600">
                <a:moveTo>
                  <a:pt x="0" y="21600"/>
                </a:moveTo>
                <a:arcTo wR="10235" hR="21600" stAng="10800000" swAng="5400000"/>
                <a:lnTo>
                  <a:pt x="10235" y="0"/>
                </a:lnTo>
                <a:arcTo wR="10235" hR="21600" stAng="-5400000" swAng="60036"/>
                <a:lnTo>
                  <a:pt x="10612" y="15"/>
                </a:lnTo>
                <a:arcTo wR="10235" hR="21600" stAng="-5460036" swAng="-533996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Nach unten gekrümmter Pfeil 67"/>
          <p:cNvSpPr/>
          <p:nvPr/>
        </p:nvSpPr>
        <p:spPr>
          <a:xfrm rot="10800000">
            <a:off x="136440" y="2374200"/>
            <a:ext cx="4572000" cy="639720"/>
          </a:xfrm>
          <a:custGeom>
            <a:avLst/>
            <a:gdLst>
              <a:gd name="textAreaLeft" fmla="*/ 1082880 w 4572000"/>
              <a:gd name="textAreaRight" fmla="*/ 3409200 w 457200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234" hR="21600" stAng="10800000" swAng="5400000"/>
                <a:lnTo>
                  <a:pt x="10989" y="0"/>
                </a:lnTo>
                <a:arcTo wR="10234" hR="21600" stAng="-5400000" swAng="3684619"/>
                <a:lnTo>
                  <a:pt x="21275" y="16200"/>
                </a:lnTo>
                <a:lnTo>
                  <a:pt x="20845" y="21600"/>
                </a:lnTo>
                <a:lnTo>
                  <a:pt x="19764" y="16200"/>
                </a:lnTo>
                <a:lnTo>
                  <a:pt x="20142" y="16200"/>
                </a:lnTo>
                <a:arcTo wR="10234" hR="21600" stAng="-1715381" swAng="-3624503"/>
                <a:lnTo>
                  <a:pt x="10611" y="15"/>
                </a:lnTo>
                <a:arcTo wR="10234" hR="21600" stAng="-5460116" swAng="-5339884"/>
                <a:close/>
              </a:path>
              <a:path fill="darkenLess" w="21600" h="21600">
                <a:moveTo>
                  <a:pt x="0" y="21600"/>
                </a:moveTo>
                <a:arcTo wR="10234" hR="21600" stAng="10800000" swAng="5400000"/>
                <a:lnTo>
                  <a:pt x="10234" y="0"/>
                </a:lnTo>
                <a:arcTo wR="10234" hR="21600" stAng="-5400000" swAng="60116"/>
                <a:lnTo>
                  <a:pt x="10611" y="15"/>
                </a:lnTo>
                <a:arcTo wR="10234" hR="21600" stAng="-5460116" swAng="-5339884"/>
                <a:close/>
              </a:path>
            </a:pathLst>
          </a:cu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feil nach rechts 68"/>
          <p:cNvSpPr/>
          <p:nvPr/>
        </p:nvSpPr>
        <p:spPr>
          <a:xfrm>
            <a:off x="1874880" y="3166920"/>
            <a:ext cx="547560" cy="17964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Inhaltsplatzhalter 6" descr=""/>
          <p:cNvPicPr/>
          <p:nvPr/>
        </p:nvPicPr>
        <p:blipFill>
          <a:blip r:embed="rId1"/>
          <a:srcRect l="0" t="0" r="0" b="27138"/>
          <a:stretch/>
        </p:blipFill>
        <p:spPr>
          <a:xfrm>
            <a:off x="654120" y="2009880"/>
            <a:ext cx="7835760" cy="343512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673884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3d-bounds-exchange measur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401C-6FE2-4B6E-B9DD-7B84245BA158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401-6DD3-4478-AB83-3D6C51A2C7F5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feld 8"/>
          <p:cNvSpPr/>
          <p:nvPr/>
        </p:nvSpPr>
        <p:spPr>
          <a:xfrm>
            <a:off x="1403280" y="141444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ndwritten – requires symmetric regular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feld 9"/>
          <p:cNvSpPr/>
          <p:nvPr/>
        </p:nvSpPr>
        <p:spPr>
          <a:xfrm>
            <a:off x="5508720" y="141444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Trans/YAXT gener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Foliennummernplatzhalter 3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04228-5957-44A1-B214-0F61D74DAC8F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FEC42-D451-4377-8F0B-5D66BA30F56A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92040" y="34920"/>
            <a:ext cx="8229600" cy="8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ahoma"/>
                <a:ea typeface="Tahoma"/>
              </a:rPr>
              <a:t>MPIOM [TP04L40: 8x4] Load Bal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3" name="Grafik 17" descr=""/>
          <p:cNvPicPr/>
          <p:nvPr/>
        </p:nvPicPr>
        <p:blipFill>
          <a:blip r:embed="rId1"/>
          <a:stretch/>
        </p:blipFill>
        <p:spPr>
          <a:xfrm>
            <a:off x="63360" y="1089000"/>
            <a:ext cx="5029200" cy="2532240"/>
          </a:xfrm>
          <a:prstGeom prst="rect">
            <a:avLst/>
          </a:prstGeom>
          <a:ln w="0">
            <a:noFill/>
          </a:ln>
        </p:spPr>
      </p:pic>
      <p:pic>
        <p:nvPicPr>
          <p:cNvPr id="444" name="Grafik 18" descr=""/>
          <p:cNvPicPr/>
          <p:nvPr/>
        </p:nvPicPr>
        <p:blipFill>
          <a:blip r:embed="rId2"/>
          <a:stretch/>
        </p:blipFill>
        <p:spPr>
          <a:xfrm>
            <a:off x="55440" y="3875040"/>
            <a:ext cx="5029200" cy="2532240"/>
          </a:xfrm>
          <a:prstGeom prst="rect">
            <a:avLst/>
          </a:prstGeom>
          <a:ln w="0">
            <a:noFill/>
          </a:ln>
        </p:spPr>
      </p:pic>
      <p:sp>
        <p:nvSpPr>
          <p:cNvPr id="445" name="Textfeld 19"/>
          <p:cNvSpPr/>
          <p:nvPr/>
        </p:nvSpPr>
        <p:spPr>
          <a:xfrm>
            <a:off x="5472000" y="1268280"/>
            <a:ext cx="3421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et-point-only optim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load chang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Unfit legacy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Nothing g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feld 20"/>
          <p:cNvSpPr/>
          <p:nvPr/>
        </p:nvSpPr>
        <p:spPr>
          <a:xfrm>
            <a:off x="5472000" y="3875040"/>
            <a:ext cx="360072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Adapted decompos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Old boundary exchange fai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Reprogramming ex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YAXT-formul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works for both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5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Support asynchronous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-Place redistrib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Multi-Phase exchan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Use YAXT in MPIOM, ECHAM, ICON and CDI-P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Future pl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3B5B4-9206-494F-AC23-A171187BAB16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EE2A-101F-4581-BD6F-87A6E402C53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262626"/>
                </a:solidFill>
                <a:latin typeface="Tahoma"/>
                <a:ea typeface="Tahoma"/>
              </a:rPr>
              <a:t>Questions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cumentation:</a:t>
            </a:r>
            <a:br>
              <a:rPr sz="2400"/>
            </a:b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1"/>
              </a:rPr>
              <a:t>https://redmine.dkrz.de/doc/yaxt/html/index.htm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Redmin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2"/>
              </a:rPr>
              <a:t>https://www.dkrz.de/redmine/projects/yax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Download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00ff"/>
                </a:solidFill>
                <a:uFillTx/>
                <a:latin typeface="Tahoma"/>
                <a:ea typeface="Tahoma"/>
                <a:hlinkClick r:id="rId3"/>
              </a:rPr>
              <a:t>https://www.dkrz.de/redmine/projects/yaxt/wiki/Download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928600" y="423360"/>
            <a:ext cx="5429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404040"/>
              </a:solidFill>
              <a:latin typeface="Tahoma"/>
              <a:ea typeface="Tahoma"/>
            </a:endParaRPr>
          </a:p>
        </p:txBody>
      </p:sp>
      <p:sp>
        <p:nvSpPr>
          <p:cNvPr id="454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71EE-2152-4EAF-BB8B-FD96CE4EAF0E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06969-8C65-4016-BD48-7FF14D003DEB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niti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process defines what data it has and what it wants (source and target decomposi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a mapping between source and target decomposi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Generate data type specific redistribution object for a given mapp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ime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Do the exchang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Finalis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57160" indent="-45720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Clean u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How it work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C9C68-1AA7-4AAC-AC23-DF7765C19E7C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0F88-5C88-4177-B2A6-48A2CAD08C79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ssumption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All data elements have the same memory layout and are stored in an array (C makes no difference between 1D and nD-array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262626"/>
                </a:solidFill>
                <a:latin typeface="Tahoma"/>
                <a:ea typeface="Tahoma"/>
              </a:rPr>
              <a:t>Each data object has a unique global id (integ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 decomposition is a list of global data element i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positions of the global ids within the set correspond to the positions of the respective data elements within the data array (if nothing else is said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efining a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CAB52-0B20-491A-B0CA-3BC2D1ACC3A8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3D450-0143-4295-8997-EA6BBA83197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mapping you need to provide the two decompositions and a MPI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he operation is collective for all processes within the given communic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mapping between src and tg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5C6E-D048-422C-9729-D31138B30542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9E1E0-B815-4D27-9259-B62C4119EF13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generate a data specific redistribution object the user needs to provide a mapping object and the MPI data type for the data elemen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It is possible to combine multiple existing redistribution objects (useful for aggregation of data exchange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Generate data specific redistribution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66EB-11F9-427E-ADBE-CA02043E157D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79B6C-4875-45B7-BBFC-3217930E7D4E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To do the exchange the user needs to call the exchange routine and provide a redistribution object and the source and target array(s) (passed via C_LOC from Fortran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62626"/>
                </a:solidFill>
                <a:latin typeface="Tahoma"/>
                <a:ea typeface="Tahoma"/>
              </a:rPr>
              <a:t>All objects generated by YAXT can be destroyed by calling the respective destruc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Doing the exchange and clean 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Datumsplatzhalter 3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E813-CC91-4F9B-B337-280B0ECD4B90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ußzeilenplatzhalter 4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oliennummernplatzhalter 5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9797-4388-4B3C-8EAF-EEC689C77230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457200" y="128556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262626"/>
                </a:solidFill>
                <a:latin typeface="Tahoma"/>
                <a:ea typeface="Tahoma"/>
              </a:rPr>
              <a:t>Gather on rank 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928600" y="428400"/>
            <a:ext cx="542916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404040"/>
                </a:solidFill>
                <a:latin typeface="Tahoma"/>
                <a:ea typeface="Tahoma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"/>
          <p:cNvPicPr/>
          <p:nvPr/>
        </p:nvPicPr>
        <p:blipFill>
          <a:blip r:embed="rId1"/>
          <a:stretch/>
        </p:blipFill>
        <p:spPr>
          <a:xfrm>
            <a:off x="1547640" y="2708280"/>
            <a:ext cx="5610240" cy="1457280"/>
          </a:xfrm>
          <a:prstGeom prst="rect">
            <a:avLst/>
          </a:prstGeom>
          <a:ln w="0">
            <a:noFill/>
          </a:ln>
        </p:spPr>
      </p:pic>
      <p:sp>
        <p:nvSpPr>
          <p:cNvPr id="177" name="Datumsplatzhalter 4"/>
          <p:cNvSpPr/>
          <p:nvPr/>
        </p:nvSpPr>
        <p:spPr>
          <a:xfrm>
            <a:off x="2286000" y="6121440"/>
            <a:ext cx="928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41D2-CD1B-44DB-B94D-5745AE8976CB}" type="datetime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28/07/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ußzeilenplatzhalter 5"/>
          <p:cNvSpPr/>
          <p:nvPr/>
        </p:nvSpPr>
        <p:spPr>
          <a:xfrm>
            <a:off x="3244680" y="6118200"/>
            <a:ext cx="2143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Jörg Behrens, Moritz Hanke, Thomas Jah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oliennummernplatzhalter 6"/>
          <p:cNvSpPr/>
          <p:nvPr/>
        </p:nvSpPr>
        <p:spPr>
          <a:xfrm>
            <a:off x="8131320" y="6572160"/>
            <a:ext cx="7966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D4D0-8F3E-4AB3-A927-174A3FA611C6}" type="slidenum">
              <a:rPr b="0" lang="en-GB" sz="1100" spc="-1" strike="noStrike">
                <a:solidFill>
                  <a:srgbClr val="595959"/>
                </a:solidFill>
                <a:latin typeface="Tahoma"/>
                <a:ea typeface="Tahoma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07:51:59Z</dcterms:created>
  <dc:creator/>
  <dc:description/>
  <dc:language>en-US</dc:language>
  <cp:lastModifiedBy/>
  <dcterms:modified xsi:type="dcterms:W3CDTF">2013-06-07T09:37:03Z</dcterms:modified>
  <cp:revision>50</cp:revision>
  <dc:subject/>
  <dc:title>Introduction to YAXT</dc:title>
</cp:coreProperties>
</file>